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DBB-987E-4FD8-A5CD-6B2B1D7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714-9E4C-42C3-BC12-C29A9CCB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477-4888-447E-A8F4-9C5EE8BD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868-438C-4705-9B80-30B7EA5D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00D-0CEA-4F80-A8E5-96858D0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4DC-CCC4-4732-8C16-18572E1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805-46CF-436D-9B40-E1B1945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7DE-94BF-4F56-9BFA-3A8CE497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3BC-AC82-452E-B07A-961D0D0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4D1-CEB0-41EB-AAC4-38EB397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5EE-89BE-415C-B144-880634F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5C5-CBF4-411B-84C7-9504BDC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A03-813A-4903-A61F-564E060B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20920" y="1755720"/>
            <a:ext cx="5254560" cy="2735280"/>
            <a:chOff x="2320920" y="1755720"/>
            <a:chExt cx="5254560" cy="2735280"/>
          </a:xfrm>
        </p:grpSpPr>
        <p:sp>
          <p:nvSpPr>
            <p:cNvPr id="42" name=""/>
            <p:cNvSpPr/>
            <p:nvPr/>
          </p:nvSpPr>
          <p:spPr>
            <a:xfrm>
              <a:off x="2320920" y="1755720"/>
              <a:ext cx="5254560" cy="273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57640" y="3429000"/>
              <a:ext cx="8244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18120" y="280188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3" idx="3"/>
              <a:endCxn id="47" idx="1"/>
            </p:cNvCxnSpPr>
            <p:nvPr/>
          </p:nvCxnSpPr>
          <p:spPr>
            <a:xfrm flipV="1">
              <a:off x="3340080" y="2855160"/>
              <a:ext cx="259200" cy="61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" name=""/>
            <p:cNvSpPr/>
            <p:nvPr/>
          </p:nvSpPr>
          <p:spPr>
            <a:xfrm>
              <a:off x="359424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3" idx="3"/>
              <a:endCxn id="48" idx="1"/>
            </p:cNvCxnSpPr>
            <p:nvPr/>
          </p:nvCxnSpPr>
          <p:spPr>
            <a:xfrm>
              <a:off x="3340080" y="3471120"/>
              <a:ext cx="254520" cy="608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3598920" y="28083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7" idx="1"/>
              <a:endCxn id="45" idx="2"/>
            </p:cNvCxnSpPr>
            <p:nvPr/>
          </p:nvCxnSpPr>
          <p:spPr>
            <a:xfrm>
              <a:off x="3598920" y="2855160"/>
              <a:ext cx="619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1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8" idx="1"/>
              <a:endCxn id="51" idx="1"/>
            </p:cNvCxnSpPr>
            <p:nvPr/>
          </p:nvCxnSpPr>
          <p:spPr>
            <a:xfrm flipV="1">
              <a:off x="3594240" y="4075920"/>
              <a:ext cx="624240" cy="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7"/>
              <a:endCxn id="54" idx="1"/>
            </p:cNvCxnSpPr>
            <p:nvPr/>
          </p:nvCxnSpPr>
          <p:spPr>
            <a:xfrm flipV="1">
              <a:off x="4308840" y="2456640"/>
              <a:ext cx="146160" cy="36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5" idx="5"/>
              <a:endCxn id="56" idx="1"/>
            </p:cNvCxnSpPr>
            <p:nvPr/>
          </p:nvCxnSpPr>
          <p:spPr>
            <a:xfrm>
              <a:off x="4308840" y="2894040"/>
              <a:ext cx="146160" cy="32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4" idx="1"/>
              <a:endCxn id="58" idx="1"/>
            </p:cNvCxnSpPr>
            <p:nvPr/>
          </p:nvCxnSpPr>
          <p:spPr>
            <a:xfrm flipV="1">
              <a:off x="4454640" y="2454840"/>
              <a:ext cx="8035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6" idx="1"/>
              <a:endCxn id="60" idx="1"/>
            </p:cNvCxnSpPr>
            <p:nvPr/>
          </p:nvCxnSpPr>
          <p:spPr>
            <a:xfrm>
              <a:off x="4454640" y="3216960"/>
              <a:ext cx="804960" cy="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5361120" y="29844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43560" y="3346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58" idx="3"/>
              <a:endCxn id="64" idx="1"/>
            </p:cNvCxnSpPr>
            <p:nvPr/>
          </p:nvCxnSpPr>
          <p:spPr>
            <a:xfrm flipV="1">
              <a:off x="5332320" y="2237400"/>
              <a:ext cx="124200" cy="217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>
              <a:stCxn id="58" idx="3"/>
              <a:endCxn id="66" idx="1"/>
            </p:cNvCxnSpPr>
            <p:nvPr/>
          </p:nvCxnSpPr>
          <p:spPr>
            <a:xfrm>
              <a:off x="5332320" y="2454840"/>
              <a:ext cx="124200" cy="2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4" idx="1"/>
              <a:endCxn id="68" idx="0"/>
            </p:cNvCxnSpPr>
            <p:nvPr/>
          </p:nvCxnSpPr>
          <p:spPr>
            <a:xfrm>
              <a:off x="5456160" y="2237400"/>
              <a:ext cx="538920" cy="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6" idx="1"/>
              <a:endCxn id="70" idx="0"/>
            </p:cNvCxnSpPr>
            <p:nvPr/>
          </p:nvCxnSpPr>
          <p:spPr>
            <a:xfrm>
              <a:off x="5456160" y="2656800"/>
              <a:ext cx="5371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" name=""/>
            <p:cNvSpPr/>
            <p:nvPr/>
          </p:nvSpPr>
          <p:spPr>
            <a:xfrm>
              <a:off x="5456160" y="219060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56160" y="2610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5979240" y="2198880"/>
              <a:ext cx="11412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5977440" y="261540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49440" y="2932200"/>
              <a:ext cx="10288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rchase Op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49440" y="3760920"/>
              <a:ext cx="102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purcha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9040" y="388620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4640" y="31701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54640" y="2409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70480" y="22734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ares = 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70480" y="303516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ares = 1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43560" y="20700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43560" y="2475000"/>
              <a:ext cx="638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27920" y="2147760"/>
              <a:ext cx="128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   Value = 23-19 –1 = 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57440"/>
              <a:ext cx="87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   Value = 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34040" y="2894040"/>
              <a:ext cx="1225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    Value = 16-19-1 = -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27920" y="333072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    Value = 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24130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9240" y="3174840"/>
              <a:ext cx="7488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60" idx="3"/>
              <a:endCxn id="83" idx="1"/>
            </p:cNvCxnSpPr>
            <p:nvPr/>
          </p:nvCxnSpPr>
          <p:spPr>
            <a:xfrm flipV="1">
              <a:off x="5334120" y="2996280"/>
              <a:ext cx="122400" cy="221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0" idx="3"/>
              <a:endCxn id="85" idx="1"/>
            </p:cNvCxnSpPr>
            <p:nvPr/>
          </p:nvCxnSpPr>
          <p:spPr>
            <a:xfrm>
              <a:off x="5334120" y="3216960"/>
              <a:ext cx="120960" cy="201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>
              <a:stCxn id="83" idx="1"/>
              <a:endCxn id="87" idx="0"/>
            </p:cNvCxnSpPr>
            <p:nvPr/>
          </p:nvCxnSpPr>
          <p:spPr>
            <a:xfrm>
              <a:off x="5456160" y="2996280"/>
              <a:ext cx="5371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85" idx="1"/>
              <a:endCxn id="89" idx="0"/>
            </p:cNvCxnSpPr>
            <p:nvPr/>
          </p:nvCxnSpPr>
          <p:spPr>
            <a:xfrm>
              <a:off x="5454720" y="3418560"/>
              <a:ext cx="53856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>
              <a:off x="5456160" y="294948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54720" y="33717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977800" y="295488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5977800" y="337716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43560" y="282564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3560" y="3240000"/>
              <a:ext cx="638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4630680" y="3490920"/>
            <a:ext cx="4443480" cy="3255840"/>
            <a:chOff x="4630680" y="3490920"/>
            <a:chExt cx="4443480" cy="3255840"/>
          </a:xfrm>
        </p:grpSpPr>
        <p:sp>
          <p:nvSpPr>
            <p:cNvPr id="461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5560" y="3726000"/>
              <a:ext cx="3490920" cy="231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00640" y="6041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00640" y="5465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00640" y="48895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00640" y="4302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064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3355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59230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49908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08660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6629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825012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88264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05360" y="6041880"/>
              <a:ext cx="223920" cy="1800"/>
            </a:xfrm>
            <a:custGeom>
              <a:avLst/>
              <a:gdLst/>
              <a:ahLst/>
              <a:rect l="l" t="t" r="r" b="b"/>
              <a:pathLst>
                <a:path w="141" h="0">
                  <a:moveTo>
                    <a:pt x="0" y="0"/>
                  </a:moveTo>
                  <a:lnTo>
                    <a:pt x="67" y="0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29280" y="6006960"/>
              <a:ext cx="235080" cy="34920"/>
            </a:xfrm>
            <a:custGeom>
              <a:avLst/>
              <a:gdLst/>
              <a:ahLst/>
              <a:rect l="l" t="t" r="r" b="b"/>
              <a:pathLst>
                <a:path w="148" h="22">
                  <a:moveTo>
                    <a:pt x="0" y="22"/>
                  </a:moveTo>
                  <a:lnTo>
                    <a:pt x="74" y="14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64360" y="5911920"/>
              <a:ext cx="234720" cy="95040"/>
            </a:xfrm>
            <a:custGeom>
              <a:avLst/>
              <a:gdLst/>
              <a:ahLst/>
              <a:rect l="l" t="t" r="r" b="b"/>
              <a:pathLst>
                <a:path w="148" h="60">
                  <a:moveTo>
                    <a:pt x="0" y="60"/>
                  </a:moveTo>
                  <a:lnTo>
                    <a:pt x="74" y="30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9080" y="5794200"/>
              <a:ext cx="235080" cy="11772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74"/>
                  </a:moveTo>
                  <a:lnTo>
                    <a:pt x="74" y="37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34160" y="5630760"/>
              <a:ext cx="235080" cy="163440"/>
            </a:xfrm>
            <a:custGeom>
              <a:avLst/>
              <a:gdLst/>
              <a:ahLst/>
              <a:rect l="l" t="t" r="r" b="b"/>
              <a:pathLst>
                <a:path w="148" h="103">
                  <a:moveTo>
                    <a:pt x="0" y="103"/>
                  </a:moveTo>
                  <a:lnTo>
                    <a:pt x="74" y="51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69240" y="5465880"/>
              <a:ext cx="223560" cy="164880"/>
            </a:xfrm>
            <a:custGeom>
              <a:avLst/>
              <a:gdLst/>
              <a:ahLst/>
              <a:rect l="l" t="t" r="r" b="b"/>
              <a:pathLst>
                <a:path w="141" h="104">
                  <a:moveTo>
                    <a:pt x="0" y="104"/>
                  </a:moveTo>
                  <a:lnTo>
                    <a:pt x="67" y="52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92800" y="5276880"/>
              <a:ext cx="235080" cy="18900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0" y="119"/>
                  </a:moveTo>
                  <a:lnTo>
                    <a:pt x="74" y="60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427880" y="5089680"/>
              <a:ext cx="2350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662960" y="4901760"/>
              <a:ext cx="234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897680" y="4701960"/>
              <a:ext cx="235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8132760" y="4512960"/>
              <a:ext cx="223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8356680" y="4325400"/>
              <a:ext cx="234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5360" y="6041880"/>
              <a:ext cx="223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292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6436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90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734160" y="5853240"/>
              <a:ext cx="23508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969240" y="5653080"/>
              <a:ext cx="22356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192800" y="5465880"/>
              <a:ext cx="23508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427880" y="5265720"/>
              <a:ext cx="23508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62960" y="5078520"/>
              <a:ext cx="23472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97680" y="4889160"/>
              <a:ext cx="23508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8132760" y="4689360"/>
              <a:ext cx="223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356680" y="4502160"/>
              <a:ext cx="23472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71760" y="595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0120" y="53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9920" y="4807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29920" y="4219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992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00280" y="61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52880" y="6146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9360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8112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5748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4464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71956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00040" y="6394320"/>
              <a:ext cx="218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of the underlying asset, 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4701600" y="48157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7040" y="510696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18520" y="554364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4630680" y="3490920"/>
            <a:ext cx="4443480" cy="3255840"/>
            <a:chOff x="4630680" y="3490920"/>
            <a:chExt cx="4443480" cy="3255840"/>
          </a:xfrm>
        </p:grpSpPr>
        <p:sp>
          <p:nvSpPr>
            <p:cNvPr id="521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560" y="3726000"/>
              <a:ext cx="3490920" cy="231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0640" y="6041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0640" y="5265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00640" y="4502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0064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3355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9230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9908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08660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6629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25012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8264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05360" y="6041880"/>
              <a:ext cx="223920" cy="1800"/>
            </a:xfrm>
            <a:custGeom>
              <a:avLst/>
              <a:gdLst/>
              <a:ahLst/>
              <a:rect l="l" t="t" r="r" b="b"/>
              <a:pathLst>
                <a:path w="141" h="0">
                  <a:moveTo>
                    <a:pt x="0" y="0"/>
                  </a:moveTo>
                  <a:lnTo>
                    <a:pt x="67" y="0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9280" y="6018120"/>
              <a:ext cx="235080" cy="23760"/>
            </a:xfrm>
            <a:custGeom>
              <a:avLst/>
              <a:gdLst/>
              <a:ahLst/>
              <a:rect l="l" t="t" r="r" b="b"/>
              <a:pathLst>
                <a:path w="148" h="15">
                  <a:moveTo>
                    <a:pt x="0" y="15"/>
                  </a:moveTo>
                  <a:lnTo>
                    <a:pt x="74" y="7"/>
                  </a:lnTo>
                  <a:lnTo>
                    <a:pt x="1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5959440"/>
              <a:ext cx="234720" cy="5868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0" y="37"/>
                  </a:moveTo>
                  <a:lnTo>
                    <a:pt x="74" y="22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99080" y="5842080"/>
              <a:ext cx="235080" cy="11736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74"/>
                  </a:moveTo>
                  <a:lnTo>
                    <a:pt x="74" y="37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34160" y="5689440"/>
              <a:ext cx="235080" cy="152640"/>
            </a:xfrm>
            <a:custGeom>
              <a:avLst/>
              <a:gdLst/>
              <a:ahLst/>
              <a:rect l="l" t="t" r="r" b="b"/>
              <a:pathLst>
                <a:path w="148" h="96">
                  <a:moveTo>
                    <a:pt x="0" y="96"/>
                  </a:moveTo>
                  <a:lnTo>
                    <a:pt x="74" y="51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69240" y="5489640"/>
              <a:ext cx="223560" cy="199800"/>
            </a:xfrm>
            <a:custGeom>
              <a:avLst/>
              <a:gdLst/>
              <a:ahLst/>
              <a:rect l="l" t="t" r="r" b="b"/>
              <a:pathLst>
                <a:path w="141" h="126">
                  <a:moveTo>
                    <a:pt x="0" y="126"/>
                  </a:moveTo>
                  <a:lnTo>
                    <a:pt x="67" y="6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92800" y="5265720"/>
              <a:ext cx="235080" cy="22392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0" y="141"/>
                  </a:moveTo>
                  <a:lnTo>
                    <a:pt x="74" y="74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27880" y="5006880"/>
              <a:ext cx="23508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0" y="163"/>
                  </a:moveTo>
                  <a:lnTo>
                    <a:pt x="74" y="82"/>
                  </a:lnTo>
                  <a:lnTo>
                    <a:pt x="1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662960" y="4760640"/>
              <a:ext cx="234720" cy="245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897680" y="4501800"/>
              <a:ext cx="23508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132760" y="4242960"/>
              <a:ext cx="22392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8356680" y="3984120"/>
              <a:ext cx="23472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6041880"/>
              <a:ext cx="223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292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6436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990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734160" y="5783400"/>
              <a:ext cx="235080" cy="25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969240" y="5524200"/>
              <a:ext cx="22356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192800" y="526536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7880" y="500652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62960" y="4760640"/>
              <a:ext cx="23472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897680" y="450180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132760" y="4242960"/>
              <a:ext cx="22392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356680" y="3984120"/>
              <a:ext cx="23472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1760" y="595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0120" y="518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920" y="4419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2992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00280" y="61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52880" y="6146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9360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8112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5748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4464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1956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040" y="6394320"/>
              <a:ext cx="218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of the underlying asset, 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4701600" y="48157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4200" y="55706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86280" y="55022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58680" y="3490920"/>
            <a:ext cx="4443480" cy="3259080"/>
            <a:chOff x="58680" y="3490920"/>
            <a:chExt cx="4443480" cy="3259080"/>
          </a:xfrm>
        </p:grpSpPr>
        <p:sp>
          <p:nvSpPr>
            <p:cNvPr id="579" name=""/>
            <p:cNvSpPr/>
            <p:nvPr/>
          </p:nvSpPr>
          <p:spPr>
            <a:xfrm>
              <a:off x="58680" y="3490920"/>
              <a:ext cx="4443480" cy="325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2280" y="3726000"/>
              <a:ext cx="3563640" cy="23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7360" y="60469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7360" y="5718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7360" y="5378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60" y="5049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7360" y="4721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7360" y="4394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360" y="4052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736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9228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40652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12256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825640" y="60465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54024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255920" y="60465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2280" y="4052880"/>
              <a:ext cx="21096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03240" y="4452840"/>
              <a:ext cx="21132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14560" y="4851360"/>
              <a:ext cx="222120" cy="398520"/>
            </a:xfrm>
            <a:custGeom>
              <a:avLst/>
              <a:gdLst/>
              <a:ahLst/>
              <a:rect l="l" t="t" r="r" b="b"/>
              <a:pathLst>
                <a:path w="140" h="251">
                  <a:moveTo>
                    <a:pt x="0" y="0"/>
                  </a:moveTo>
                  <a:lnTo>
                    <a:pt x="66" y="125"/>
                  </a:lnTo>
                  <a:lnTo>
                    <a:pt x="140" y="2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36680" y="5249880"/>
              <a:ext cx="210960" cy="351000"/>
            </a:xfrm>
            <a:custGeom>
              <a:avLst/>
              <a:gdLst/>
              <a:ahLst/>
              <a:rect l="l" t="t" r="r" b="b"/>
              <a:pathLst>
                <a:path w="133" h="221">
                  <a:moveTo>
                    <a:pt x="0" y="0"/>
                  </a:moveTo>
                  <a:lnTo>
                    <a:pt x="66" y="118"/>
                  </a:lnTo>
                  <a:lnTo>
                    <a:pt x="103" y="170"/>
                  </a:lnTo>
                  <a:lnTo>
                    <a:pt x="133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47640" y="560088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29" y="45"/>
                  </a:lnTo>
                  <a:lnTo>
                    <a:pt x="66" y="74"/>
                  </a:lnTo>
                  <a:lnTo>
                    <a:pt x="133" y="1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58960" y="5811840"/>
              <a:ext cx="210960" cy="11736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0" y="0"/>
                  </a:moveTo>
                  <a:lnTo>
                    <a:pt x="66" y="45"/>
                  </a:lnTo>
                  <a:lnTo>
                    <a:pt x="133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69920" y="5929200"/>
              <a:ext cx="222480" cy="58680"/>
            </a:xfrm>
            <a:custGeom>
              <a:avLst/>
              <a:gdLst/>
              <a:ahLst/>
              <a:rect l="l" t="t" r="r" b="b"/>
              <a:pathLst>
                <a:path w="140" h="37">
                  <a:moveTo>
                    <a:pt x="0" y="0"/>
                  </a:moveTo>
                  <a:lnTo>
                    <a:pt x="66" y="22"/>
                  </a:lnTo>
                  <a:lnTo>
                    <a:pt x="140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987880"/>
              <a:ext cx="210960" cy="2412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0"/>
                  </a:moveTo>
                  <a:lnTo>
                    <a:pt x="66" y="7"/>
                  </a:lnTo>
                  <a:lnTo>
                    <a:pt x="133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03360" y="6012000"/>
              <a:ext cx="211320" cy="2376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0"/>
                  </a:moveTo>
                  <a:lnTo>
                    <a:pt x="66" y="7"/>
                  </a:lnTo>
                  <a:lnTo>
                    <a:pt x="133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14680" y="603576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66" y="0"/>
                  </a:lnTo>
                  <a:lnTo>
                    <a:pt x="1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25640" y="6035760"/>
              <a:ext cx="222480" cy="11160"/>
            </a:xfrm>
            <a:custGeom>
              <a:avLst/>
              <a:gdLst/>
              <a:ahLst/>
              <a:rect l="l" t="t" r="r" b="b"/>
              <a:pathLst>
                <a:path w="140" h="7">
                  <a:moveTo>
                    <a:pt x="0" y="0"/>
                  </a:moveTo>
                  <a:lnTo>
                    <a:pt x="66" y="0"/>
                  </a:lnTo>
                  <a:lnTo>
                    <a:pt x="14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6046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59080" y="6046920"/>
              <a:ext cx="211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70400" y="6046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2280" y="4052880"/>
              <a:ext cx="2109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03240" y="4452840"/>
              <a:ext cx="2113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14560" y="4851360"/>
              <a:ext cx="2221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36680" y="5249880"/>
              <a:ext cx="21096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47640" y="5648400"/>
              <a:ext cx="2113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5896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9920" y="6046920"/>
              <a:ext cx="222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240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03360" y="6046920"/>
              <a:ext cx="211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468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25640" y="6046920"/>
              <a:ext cx="222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812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9080" y="6046920"/>
              <a:ext cx="211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7040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6680" y="596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680" y="563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6840" y="5295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6840" y="496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6840" y="464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6840" y="4311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6840" y="3971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6840" y="364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000" y="615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3632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056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5400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7004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9000" y="6151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01040" y="6399360"/>
              <a:ext cx="223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alue of the underlying asset,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6200000">
              <a:off x="128160" y="48236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80" y="3490920"/>
              <a:ext cx="4443480" cy="325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4880" y="574992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5280" y="558648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444760" y="1679400"/>
            <a:ext cx="4406760" cy="3240360"/>
            <a:chOff x="2444760" y="1679400"/>
            <a:chExt cx="4406760" cy="3240360"/>
          </a:xfrm>
        </p:grpSpPr>
        <p:sp>
          <p:nvSpPr>
            <p:cNvPr id="643" name=""/>
            <p:cNvSpPr/>
            <p:nvPr/>
          </p:nvSpPr>
          <p:spPr>
            <a:xfrm>
              <a:off x="2444760" y="1679400"/>
              <a:ext cx="4406760" cy="324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57640" y="34290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8120" y="2805120"/>
              <a:ext cx="10620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7" name=""/>
            <p:cNvCxnSpPr>
              <a:stCxn id="644" idx="3"/>
              <a:endCxn id="648" idx="1"/>
            </p:cNvCxnSpPr>
            <p:nvPr/>
          </p:nvCxnSpPr>
          <p:spPr>
            <a:xfrm flipV="1">
              <a:off x="3331800" y="2848680"/>
              <a:ext cx="267120" cy="6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9" name=""/>
            <p:cNvSpPr/>
            <p:nvPr/>
          </p:nvSpPr>
          <p:spPr>
            <a:xfrm>
              <a:off x="359424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4" idx="3"/>
              <a:endCxn id="649" idx="1"/>
            </p:cNvCxnSpPr>
            <p:nvPr/>
          </p:nvCxnSpPr>
          <p:spPr>
            <a:xfrm>
              <a:off x="3332160" y="3471480"/>
              <a:ext cx="2628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8" name=""/>
            <p:cNvSpPr/>
            <p:nvPr/>
          </p:nvSpPr>
          <p:spPr>
            <a:xfrm>
              <a:off x="3598920" y="280188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8" idx="1"/>
              <a:endCxn id="646" idx="2"/>
            </p:cNvCxnSpPr>
            <p:nvPr/>
          </p:nvCxnSpPr>
          <p:spPr>
            <a:xfrm>
              <a:off x="3598920" y="2849040"/>
              <a:ext cx="619920" cy="1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2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"/>
            <p:cNvCxnSpPr>
              <a:stCxn id="649" idx="1"/>
              <a:endCxn id="652" idx="1"/>
            </p:cNvCxnSpPr>
            <p:nvPr/>
          </p:nvCxnSpPr>
          <p:spPr>
            <a:xfrm flipV="1">
              <a:off x="3593880" y="4075920"/>
              <a:ext cx="62460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4" name=""/>
            <p:cNvCxnSpPr>
              <a:stCxn id="646" idx="7"/>
              <a:endCxn id="655" idx="1"/>
            </p:cNvCxnSpPr>
            <p:nvPr/>
          </p:nvCxnSpPr>
          <p:spPr>
            <a:xfrm flipV="1">
              <a:off x="4308480" y="2457000"/>
              <a:ext cx="14688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6" name=""/>
            <p:cNvCxnSpPr>
              <a:stCxn id="646" idx="5"/>
              <a:endCxn id="657" idx="1"/>
            </p:cNvCxnSpPr>
            <p:nvPr/>
          </p:nvCxnSpPr>
          <p:spPr>
            <a:xfrm>
              <a:off x="4308480" y="2896920"/>
              <a:ext cx="146880" cy="32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8" name=""/>
            <p:cNvCxnSpPr>
              <a:stCxn id="655" idx="1"/>
              <a:endCxn id="659" idx="1"/>
            </p:cNvCxnSpPr>
            <p:nvPr/>
          </p:nvCxnSpPr>
          <p:spPr>
            <a:xfrm flipV="1">
              <a:off x="4454280" y="2455560"/>
              <a:ext cx="80388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0" name=""/>
            <p:cNvCxnSpPr>
              <a:stCxn id="657" idx="1"/>
            </p:cNvCxnSpPr>
            <p:nvPr/>
          </p:nvCxnSpPr>
          <p:spPr>
            <a:xfrm>
              <a:off x="4454280" y="3217680"/>
              <a:ext cx="795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1" name=""/>
            <p:cNvCxnSpPr>
              <a:stCxn id="659" idx="3"/>
              <a:endCxn id="662" idx="1"/>
            </p:cNvCxnSpPr>
            <p:nvPr/>
          </p:nvCxnSpPr>
          <p:spPr>
            <a:xfrm flipV="1">
              <a:off x="5332320" y="2238120"/>
              <a:ext cx="124560" cy="21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3" name=""/>
            <p:cNvCxnSpPr>
              <a:stCxn id="659" idx="3"/>
              <a:endCxn id="664" idx="1"/>
            </p:cNvCxnSpPr>
            <p:nvPr/>
          </p:nvCxnSpPr>
          <p:spPr>
            <a:xfrm>
              <a:off x="5332320" y="2455920"/>
              <a:ext cx="124560" cy="2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5" name=""/>
            <p:cNvCxnSpPr>
              <a:stCxn id="662" idx="1"/>
              <a:endCxn id="666" idx="0"/>
            </p:cNvCxnSpPr>
            <p:nvPr/>
          </p:nvCxnSpPr>
          <p:spPr>
            <a:xfrm>
              <a:off x="5456160" y="2238120"/>
              <a:ext cx="88992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7" name=""/>
            <p:cNvCxnSpPr>
              <a:stCxn id="664" idx="1"/>
              <a:endCxn id="668" idx="0"/>
            </p:cNvCxnSpPr>
            <p:nvPr/>
          </p:nvCxnSpPr>
          <p:spPr>
            <a:xfrm>
              <a:off x="5456160" y="2657520"/>
              <a:ext cx="889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62" name=""/>
            <p:cNvSpPr/>
            <p:nvPr/>
          </p:nvSpPr>
          <p:spPr>
            <a:xfrm>
              <a:off x="5456160" y="219060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56160" y="2610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6331680" y="2198880"/>
              <a:ext cx="11412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6200000">
              <a:off x="6331680" y="2615400"/>
              <a:ext cx="11448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49440" y="2932200"/>
              <a:ext cx="10288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 stage invest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$67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3440" y="376092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invest in first st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9040" y="388620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54640" y="31701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4640" y="2409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0480" y="22734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 goo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70480" y="3035160"/>
              <a:ext cx="884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 po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43560" y="20700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vest in 2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st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33840" y="2478240"/>
              <a:ext cx="809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57800" y="24130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09920" y="44244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18240" y="4402080"/>
              <a:ext cx="10620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19440" y="434340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00760" y="4334040"/>
              <a:ext cx="74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6240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687680" y="2089080"/>
            <a:ext cx="5254560" cy="2516400"/>
            <a:chOff x="1687680" y="2089080"/>
            <a:chExt cx="5254560" cy="2516400"/>
          </a:xfrm>
        </p:grpSpPr>
        <p:sp>
          <p:nvSpPr>
            <p:cNvPr id="682" name=""/>
            <p:cNvSpPr/>
            <p:nvPr/>
          </p:nvSpPr>
          <p:spPr>
            <a:xfrm>
              <a:off x="5508720" y="3121200"/>
              <a:ext cx="1001520" cy="322200"/>
            </a:xfrm>
            <a:custGeom>
              <a:avLst/>
              <a:gdLst/>
              <a:ahLst/>
              <a:rect l="l" t="t" r="r" b="b"/>
              <a:pathLst>
                <a:path w="1263" h="405">
                  <a:moveTo>
                    <a:pt x="0" y="2"/>
                  </a:moveTo>
                  <a:lnTo>
                    <a:pt x="0" y="405"/>
                  </a:lnTo>
                  <a:lnTo>
                    <a:pt x="1263" y="403"/>
                  </a:lnTo>
                  <a:lnTo>
                    <a:pt x="12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22760" y="3781440"/>
              <a:ext cx="824040" cy="3207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09880" y="3189240"/>
              <a:ext cx="865080" cy="189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87680" y="2089080"/>
              <a:ext cx="5254560" cy="251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70280" y="3589200"/>
              <a:ext cx="1085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te market: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7840" y="3708360"/>
              <a:ext cx="1067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centrate may b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82960" y="382572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ld to custo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93680" y="3943440"/>
              <a:ext cx="99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melters or trader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31480" y="31590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33920" y="3290760"/>
              <a:ext cx="60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09880" y="3189240"/>
              <a:ext cx="865080" cy="18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24080" y="32130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22760" y="3781440"/>
              <a:ext cx="824040" cy="32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58040" y="3792600"/>
              <a:ext cx="77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ing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7200" y="392436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08720" y="3121200"/>
              <a:ext cx="1001520" cy="322200"/>
            </a:xfrm>
            <a:custGeom>
              <a:avLst/>
              <a:gdLst/>
              <a:ahLst/>
              <a:rect l="l" t="t" r="r" b="b"/>
              <a:pathLst>
                <a:path w="1263" h="405">
                  <a:moveTo>
                    <a:pt x="0" y="2"/>
                  </a:moveTo>
                  <a:lnTo>
                    <a:pt x="0" y="405"/>
                  </a:lnTo>
                  <a:lnTo>
                    <a:pt x="1263" y="403"/>
                  </a:lnTo>
                  <a:lnTo>
                    <a:pt x="12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13840" y="3133800"/>
              <a:ext cx="79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pper Met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22560" y="326556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Mar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22760" y="2513160"/>
              <a:ext cx="822240" cy="320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135320" y="2716200"/>
              <a:ext cx="7920" cy="1120680"/>
              <a:chOff x="4135320" y="2716200"/>
              <a:chExt cx="7920" cy="11206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37120" y="3830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37120" y="3816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137120" y="3801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137120" y="378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37120" y="3774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37120" y="3760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37120" y="3747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7120" y="37339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37120" y="371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37120" y="37069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37120" y="3692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137120" y="3678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137120" y="3665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37120" y="3651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137120" y="363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137120" y="3624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37120" y="3610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137120" y="359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37120" y="3583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37120" y="3568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37120" y="3554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35320" y="3541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35320" y="3527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135320" y="3513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35320" y="3500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35320" y="3486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35320" y="3471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35320" y="3459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35320" y="344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35320" y="3430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35320" y="3417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35320" y="34034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135320" y="3389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35320" y="33764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35320" y="3362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35320" y="3348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135320" y="3335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135320" y="3321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135320" y="33066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35320" y="3294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35320" y="3279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35320" y="3265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35320" y="32529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35320" y="3238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35320" y="3224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35320" y="32115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35320" y="3197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135320" y="31827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35320" y="3170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135320" y="3156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35320" y="3141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135320" y="3129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35320" y="3114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13532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35320" y="3087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35320" y="3073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35320" y="3059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35320" y="3046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35320" y="3032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35320" y="3017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135320" y="3005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35320" y="2990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35320" y="297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35320" y="2963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35320" y="294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35320" y="2936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135320" y="2922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35320" y="2908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35320" y="289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35320" y="288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35320" y="2867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135320" y="2854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35320" y="284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135320" y="282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35320" y="281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35320" y="279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35320" y="278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135320" y="277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135320" y="275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135320" y="27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35320" y="2730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35320" y="27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4622760" y="2513160"/>
              <a:ext cx="822240" cy="32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05640" y="259884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90920" y="3227400"/>
              <a:ext cx="266760" cy="139680"/>
            </a:xfrm>
            <a:prstGeom prst="rightArrow">
              <a:avLst>
                <a:gd name="adj1" fmla="val 50000"/>
                <a:gd name="adj2" fmla="val 4774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7760" y="3218040"/>
              <a:ext cx="266400" cy="139680"/>
            </a:xfrm>
            <a:prstGeom prst="rightArrow">
              <a:avLst>
                <a:gd name="adj1" fmla="val 50000"/>
                <a:gd name="adj2" fmla="val 4768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03720" y="2552760"/>
              <a:ext cx="301680" cy="520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219560" y="3568680"/>
              <a:ext cx="301680" cy="520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360 h 520560"/>
                <a:gd name="textAreaBottom" fmla="*/ 52128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rot="5400000">
              <a:off x="5762520" y="3568680"/>
              <a:ext cx="301680" cy="520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670" stAng="10800000" swAng="5400000"/>
                  <a:lnTo>
                    <a:pt x="15006" y="3490"/>
                  </a:lnTo>
                  <a:lnTo>
                    <a:pt x="15006" y="0"/>
                  </a:lnTo>
                  <a:lnTo>
                    <a:pt x="21600" y="6079"/>
                  </a:lnTo>
                  <a:lnTo>
                    <a:pt x="15006" y="12158"/>
                  </a:lnTo>
                  <a:lnTo>
                    <a:pt x="15006" y="8668"/>
                  </a:lnTo>
                  <a:lnTo>
                    <a:pt x="12427" y="8668"/>
                  </a:lnTo>
                  <a:arcTo wR="7249" hR="3492" stAng="16200000" swAng="-5400000"/>
                  <a:lnTo>
                    <a:pt x="5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 rot="16200000">
              <a:off x="5762520" y="2536920"/>
              <a:ext cx="301680" cy="520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360 h 520560"/>
                <a:gd name="textAreaBottom" fmla="*/ 52128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670" stAng="10800000" swAng="5400000"/>
                  <a:lnTo>
                    <a:pt x="15006" y="3490"/>
                  </a:lnTo>
                  <a:lnTo>
                    <a:pt x="15006" y="0"/>
                  </a:lnTo>
                  <a:lnTo>
                    <a:pt x="21600" y="6079"/>
                  </a:lnTo>
                  <a:lnTo>
                    <a:pt x="15006" y="12158"/>
                  </a:lnTo>
                  <a:lnTo>
                    <a:pt x="15006" y="8668"/>
                  </a:lnTo>
                  <a:lnTo>
                    <a:pt x="12427" y="8668"/>
                  </a:lnTo>
                  <a:arcTo wR="7249" hR="3492" stAng="16200000" swAng="-5400000"/>
                  <a:lnTo>
                    <a:pt x="5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793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70120" y="3564000"/>
              <a:ext cx="2880" cy="25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920" y="61246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26920" y="58006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26920" y="5491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26920" y="5167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6920" y="48448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6920" y="45212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6920" y="42116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920" y="38876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6920" y="356400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870120" y="6079680"/>
              <a:ext cx="28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1588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1944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48904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033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62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410832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4651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66880" y="57229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36"/>
                  </a:moveTo>
                  <a:lnTo>
                    <a:pt x="5" y="44"/>
                  </a:lnTo>
                  <a:lnTo>
                    <a:pt x="69" y="7"/>
                  </a:lnTo>
                  <a:lnTo>
                    <a:pt x="65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73080" y="5721480"/>
              <a:ext cx="119160" cy="1584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0"/>
                  </a:moveTo>
                  <a:lnTo>
                    <a:pt x="0" y="9"/>
                  </a:lnTo>
                  <a:lnTo>
                    <a:pt x="75" y="10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87560" y="557676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0" y="93"/>
                  </a:moveTo>
                  <a:lnTo>
                    <a:pt x="7" y="98"/>
                  </a:lnTo>
                  <a:lnTo>
                    <a:pt x="72" y="5"/>
                  </a:lnTo>
                  <a:lnTo>
                    <a:pt x="64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87280" y="5226120"/>
              <a:ext cx="117720" cy="355680"/>
            </a:xfrm>
            <a:custGeom>
              <a:avLst/>
              <a:gdLst/>
              <a:ahLst/>
              <a:rect l="l" t="t" r="r" b="b"/>
              <a:pathLst>
                <a:path w="74" h="224">
                  <a:moveTo>
                    <a:pt x="0" y="222"/>
                  </a:moveTo>
                  <a:lnTo>
                    <a:pt x="9" y="224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95280" y="519120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0" y="19"/>
                  </a:moveTo>
                  <a:lnTo>
                    <a:pt x="3" y="27"/>
                  </a:lnTo>
                  <a:lnTo>
                    <a:pt x="77" y="8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11200" y="50896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5"/>
                  </a:moveTo>
                  <a:lnTo>
                    <a:pt x="6" y="71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19200" y="508788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0"/>
                  </a:moveTo>
                  <a:lnTo>
                    <a:pt x="0" y="9"/>
                  </a:lnTo>
                  <a:lnTo>
                    <a:pt x="65" y="10"/>
                  </a:lnTo>
                  <a:lnTo>
                    <a:pt x="6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20720" y="5087880"/>
              <a:ext cx="120600" cy="586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3" y="0"/>
                  </a:moveTo>
                  <a:lnTo>
                    <a:pt x="0" y="8"/>
                  </a:lnTo>
                  <a:lnTo>
                    <a:pt x="73" y="37"/>
                  </a:lnTo>
                  <a:lnTo>
                    <a:pt x="76" y="2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36640" y="5132520"/>
              <a:ext cx="106560" cy="4104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2" y="0"/>
                  </a:moveTo>
                  <a:lnTo>
                    <a:pt x="0" y="9"/>
                  </a:lnTo>
                  <a:lnTo>
                    <a:pt x="65" y="26"/>
                  </a:lnTo>
                  <a:lnTo>
                    <a:pt x="67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8160" y="5089680"/>
              <a:ext cx="111240" cy="838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46"/>
                  </a:moveTo>
                  <a:lnTo>
                    <a:pt x="5" y="53"/>
                  </a:lnTo>
                  <a:lnTo>
                    <a:pt x="70" y="7"/>
                  </a:lnTo>
                  <a:lnTo>
                    <a:pt x="6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40040" y="488484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0" y="130"/>
                  </a:moveTo>
                  <a:lnTo>
                    <a:pt x="7" y="134"/>
                  </a:lnTo>
                  <a:lnTo>
                    <a:pt x="81" y="4"/>
                  </a:lnTo>
                  <a:lnTo>
                    <a:pt x="74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488304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7" y="0"/>
                  </a:moveTo>
                  <a:lnTo>
                    <a:pt x="0" y="6"/>
                  </a:lnTo>
                  <a:lnTo>
                    <a:pt x="65" y="81"/>
                  </a:lnTo>
                  <a:lnTo>
                    <a:pt x="72" y="7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58920" y="5005440"/>
              <a:ext cx="115920" cy="326880"/>
            </a:xfrm>
            <a:custGeom>
              <a:avLst/>
              <a:gdLst/>
              <a:ahLst/>
              <a:rect l="l" t="t" r="r" b="b"/>
              <a:pathLst>
                <a:path w="73" h="206">
                  <a:moveTo>
                    <a:pt x="8" y="0"/>
                  </a:moveTo>
                  <a:lnTo>
                    <a:pt x="0" y="2"/>
                  </a:lnTo>
                  <a:lnTo>
                    <a:pt x="65" y="206"/>
                  </a:lnTo>
                  <a:lnTo>
                    <a:pt x="73" y="20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63680" y="5327640"/>
              <a:ext cx="12852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" y="0"/>
                  </a:moveTo>
                  <a:lnTo>
                    <a:pt x="0" y="5"/>
                  </a:lnTo>
                  <a:lnTo>
                    <a:pt x="74" y="106"/>
                  </a:lnTo>
                  <a:lnTo>
                    <a:pt x="81" y="10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84280" y="545616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18"/>
                  </a:moveTo>
                  <a:lnTo>
                    <a:pt x="2" y="26"/>
                  </a:lnTo>
                  <a:lnTo>
                    <a:pt x="67" y="9"/>
                  </a:lnTo>
                  <a:lnTo>
                    <a:pt x="6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82920" y="5181480"/>
              <a:ext cx="115920" cy="28584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176"/>
                  </a:moveTo>
                  <a:lnTo>
                    <a:pt x="8" y="18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87680" y="5018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101"/>
                  </a:moveTo>
                  <a:lnTo>
                    <a:pt x="7" y="107"/>
                  </a:lnTo>
                  <a:lnTo>
                    <a:pt x="81" y="5"/>
                  </a:lnTo>
                  <a:lnTo>
                    <a:pt x="7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05040" y="4842000"/>
              <a:ext cx="114480" cy="18252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0" y="111"/>
                  </a:moveTo>
                  <a:lnTo>
                    <a:pt x="7" y="115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06560" y="45036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214"/>
                  </a:moveTo>
                  <a:lnTo>
                    <a:pt x="8" y="216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09880" y="4503600"/>
              <a:ext cx="131760" cy="533520"/>
            </a:xfrm>
            <a:custGeom>
              <a:avLst/>
              <a:gdLst/>
              <a:ahLst/>
              <a:rect l="l" t="t" r="r" b="b"/>
              <a:pathLst>
                <a:path w="83" h="336">
                  <a:moveTo>
                    <a:pt x="8" y="0"/>
                  </a:moveTo>
                  <a:lnTo>
                    <a:pt x="0" y="3"/>
                  </a:lnTo>
                  <a:lnTo>
                    <a:pt x="74" y="336"/>
                  </a:lnTo>
                  <a:lnTo>
                    <a:pt x="83" y="3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27240" y="4227480"/>
              <a:ext cx="119160" cy="809640"/>
            </a:xfrm>
            <a:custGeom>
              <a:avLst/>
              <a:gdLst/>
              <a:ahLst/>
              <a:rect l="l" t="t" r="r" b="b"/>
              <a:pathLst>
                <a:path w="75" h="510">
                  <a:moveTo>
                    <a:pt x="0" y="509"/>
                  </a:moveTo>
                  <a:lnTo>
                    <a:pt x="10" y="510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32000" y="413388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0" y="55"/>
                  </a:moveTo>
                  <a:lnTo>
                    <a:pt x="6" y="63"/>
                  </a:lnTo>
                  <a:lnTo>
                    <a:pt x="70" y="7"/>
                  </a:lnTo>
                  <a:lnTo>
                    <a:pt x="64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32080" y="4137120"/>
              <a:ext cx="131760" cy="5619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" y="0"/>
                  </a:moveTo>
                  <a:lnTo>
                    <a:pt x="0" y="2"/>
                  </a:lnTo>
                  <a:lnTo>
                    <a:pt x="74" y="354"/>
                  </a:lnTo>
                  <a:lnTo>
                    <a:pt x="83" y="35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49800" y="4697280"/>
              <a:ext cx="117360" cy="546120"/>
            </a:xfrm>
            <a:custGeom>
              <a:avLst/>
              <a:gdLst/>
              <a:ahLst/>
              <a:rect l="l" t="t" r="r" b="b"/>
              <a:pathLst>
                <a:path w="74" h="344">
                  <a:moveTo>
                    <a:pt x="9" y="0"/>
                  </a:moveTo>
                  <a:lnTo>
                    <a:pt x="0" y="1"/>
                  </a:lnTo>
                  <a:lnTo>
                    <a:pt x="65" y="344"/>
                  </a:lnTo>
                  <a:lnTo>
                    <a:pt x="74" y="3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2760" y="4535640"/>
              <a:ext cx="119160" cy="707760"/>
            </a:xfrm>
            <a:custGeom>
              <a:avLst/>
              <a:gdLst/>
              <a:ahLst/>
              <a:rect l="l" t="t" r="r" b="b"/>
              <a:pathLst>
                <a:path w="75" h="446">
                  <a:moveTo>
                    <a:pt x="0" y="445"/>
                  </a:moveTo>
                  <a:lnTo>
                    <a:pt x="10" y="446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56080" y="3930480"/>
              <a:ext cx="131760" cy="606600"/>
            </a:xfrm>
            <a:custGeom>
              <a:avLst/>
              <a:gdLst/>
              <a:ahLst/>
              <a:rect l="l" t="t" r="r" b="b"/>
              <a:pathLst>
                <a:path w="83" h="382">
                  <a:moveTo>
                    <a:pt x="0" y="380"/>
                  </a:moveTo>
                  <a:lnTo>
                    <a:pt x="8" y="382"/>
                  </a:lnTo>
                  <a:lnTo>
                    <a:pt x="83" y="2"/>
                  </a:lnTo>
                  <a:lnTo>
                    <a:pt x="74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673440" y="3930480"/>
              <a:ext cx="117360" cy="489240"/>
            </a:xfrm>
            <a:custGeom>
              <a:avLst/>
              <a:gdLst/>
              <a:ahLst/>
              <a:rect l="l" t="t" r="r" b="b"/>
              <a:pathLst>
                <a:path w="74" h="308">
                  <a:moveTo>
                    <a:pt x="9" y="0"/>
                  </a:moveTo>
                  <a:lnTo>
                    <a:pt x="0" y="2"/>
                  </a:lnTo>
                  <a:lnTo>
                    <a:pt x="65" y="308"/>
                  </a:lnTo>
                  <a:lnTo>
                    <a:pt x="74" y="30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76760" y="4417920"/>
              <a:ext cx="118800" cy="825480"/>
            </a:xfrm>
            <a:custGeom>
              <a:avLst/>
              <a:gdLst/>
              <a:ahLst/>
              <a:rect l="l" t="t" r="r" b="b"/>
              <a:pathLst>
                <a:path w="75" h="520">
                  <a:moveTo>
                    <a:pt x="10" y="0"/>
                  </a:moveTo>
                  <a:lnTo>
                    <a:pt x="0" y="1"/>
                  </a:lnTo>
                  <a:lnTo>
                    <a:pt x="65" y="520"/>
                  </a:lnTo>
                  <a:lnTo>
                    <a:pt x="75" y="5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79720" y="523872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9" y="0"/>
                  </a:moveTo>
                  <a:lnTo>
                    <a:pt x="0" y="4"/>
                  </a:lnTo>
                  <a:lnTo>
                    <a:pt x="75" y="161"/>
                  </a:lnTo>
                  <a:lnTo>
                    <a:pt x="83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98880" y="5594400"/>
              <a:ext cx="28440" cy="12060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9" y="0"/>
                  </a:moveTo>
                  <a:lnTo>
                    <a:pt x="0" y="1"/>
                  </a:lnTo>
                  <a:lnTo>
                    <a:pt x="9" y="76"/>
                  </a:lnTo>
                  <a:lnTo>
                    <a:pt x="18" y="7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14720" y="57070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19400" y="57056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27320" y="5551560"/>
              <a:ext cx="2880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0" y="102"/>
                  </a:moveTo>
                  <a:lnTo>
                    <a:pt x="10" y="10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41720" y="5551560"/>
              <a:ext cx="15840" cy="162000"/>
            </a:xfrm>
            <a:custGeom>
              <a:avLst/>
              <a:gdLst/>
              <a:ahLst/>
              <a:rect l="l" t="t" r="r" b="b"/>
              <a:pathLst>
                <a:path w="10" h="102">
                  <a:moveTo>
                    <a:pt x="9" y="0"/>
                  </a:moveTo>
                  <a:lnTo>
                    <a:pt x="0" y="0"/>
                  </a:lnTo>
                  <a:lnTo>
                    <a:pt x="1" y="102"/>
                  </a:lnTo>
                  <a:lnTo>
                    <a:pt x="10" y="10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1720" y="5594400"/>
              <a:ext cx="3024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0" y="75"/>
                  </a:moveTo>
                  <a:lnTo>
                    <a:pt x="9" y="76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57560" y="5589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71960" y="5462640"/>
              <a:ext cx="15840" cy="147600"/>
            </a:xfrm>
            <a:custGeom>
              <a:avLst/>
              <a:gdLst/>
              <a:ahLst/>
              <a:rect l="l" t="t" r="r" b="b"/>
              <a:pathLst>
                <a:path w="10" h="93">
                  <a:moveTo>
                    <a:pt x="0" y="93"/>
                  </a:moveTo>
                  <a:lnTo>
                    <a:pt x="9" y="9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73400" y="54579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86360" y="546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9" y="10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86360" y="538632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7"/>
                  </a:moveTo>
                  <a:lnTo>
                    <a:pt x="8" y="50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00400" y="5329080"/>
              <a:ext cx="28800" cy="6048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6"/>
                  </a:moveTo>
                  <a:lnTo>
                    <a:pt x="9" y="38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16240" y="5227560"/>
              <a:ext cx="16200" cy="10332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65"/>
                  </a:moveTo>
                  <a:lnTo>
                    <a:pt x="9" y="65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6240" y="50943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4"/>
                  </a:moveTo>
                  <a:lnTo>
                    <a:pt x="9" y="85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30640" y="4991040"/>
              <a:ext cx="17640" cy="10332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65"/>
                  </a:moveTo>
                  <a:lnTo>
                    <a:pt x="10" y="65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30640" y="4784760"/>
              <a:ext cx="28440" cy="208080"/>
            </a:xfrm>
            <a:custGeom>
              <a:avLst/>
              <a:gdLst/>
              <a:ahLst/>
              <a:rect l="l" t="t" r="r" b="b"/>
              <a:pathLst>
                <a:path w="18" h="131">
                  <a:moveTo>
                    <a:pt x="0" y="130"/>
                  </a:moveTo>
                  <a:lnTo>
                    <a:pt x="10" y="131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45040" y="47829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0"/>
                  </a:moveTo>
                  <a:lnTo>
                    <a:pt x="0" y="3"/>
                  </a:lnTo>
                  <a:lnTo>
                    <a:pt x="9" y="32"/>
                  </a:lnTo>
                  <a:lnTo>
                    <a:pt x="17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59080" y="4830840"/>
              <a:ext cx="17640" cy="5724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9" y="0"/>
                  </a:moveTo>
                  <a:lnTo>
                    <a:pt x="0" y="0"/>
                  </a:lnTo>
                  <a:lnTo>
                    <a:pt x="1" y="36"/>
                  </a:lnTo>
                  <a:lnTo>
                    <a:pt x="11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59080" y="4888080"/>
              <a:ext cx="30240" cy="164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9" y="0"/>
                  </a:moveTo>
                  <a:lnTo>
                    <a:pt x="0" y="1"/>
                  </a:lnTo>
                  <a:lnTo>
                    <a:pt x="9" y="104"/>
                  </a:lnTo>
                  <a:lnTo>
                    <a:pt x="19" y="10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76720" y="5046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73480" y="50515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0" y="0"/>
                  </a:moveTo>
                  <a:lnTo>
                    <a:pt x="0" y="1"/>
                  </a:lnTo>
                  <a:lnTo>
                    <a:pt x="10" y="121"/>
                  </a:lnTo>
                  <a:lnTo>
                    <a:pt x="19" y="1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89320" y="5181480"/>
              <a:ext cx="28800" cy="6192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7"/>
                  </a:moveTo>
                  <a:lnTo>
                    <a:pt x="8" y="39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03720" y="51832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0"/>
                  </a:moveTo>
                  <a:lnTo>
                    <a:pt x="0" y="0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03720" y="515448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0" y="65"/>
                  </a:moveTo>
                  <a:lnTo>
                    <a:pt x="10" y="66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19560" y="5006880"/>
              <a:ext cx="30240" cy="14940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9" y="94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35400" y="5000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35400" y="49863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7" y="1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48000" y="4991040"/>
              <a:ext cx="16200" cy="446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48000" y="50338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8" y="0"/>
                  </a:moveTo>
                  <a:lnTo>
                    <a:pt x="0" y="2"/>
                  </a:lnTo>
                  <a:lnTo>
                    <a:pt x="9" y="39"/>
                  </a:lnTo>
                  <a:lnTo>
                    <a:pt x="17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8880" y="50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76800" y="5094360"/>
              <a:ext cx="17280" cy="73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0" y="0"/>
                  </a:moveTo>
                  <a:lnTo>
                    <a:pt x="0" y="0"/>
                  </a:lnTo>
                  <a:lnTo>
                    <a:pt x="1" y="46"/>
                  </a:lnTo>
                  <a:lnTo>
                    <a:pt x="11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76800" y="5165640"/>
              <a:ext cx="28440" cy="637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9" y="0"/>
                  </a:moveTo>
                  <a:lnTo>
                    <a:pt x="0" y="2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92640" y="51544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46"/>
                  </a:moveTo>
                  <a:lnTo>
                    <a:pt x="9" y="4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94080" y="51339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0"/>
                  </a:moveTo>
                  <a:lnTo>
                    <a:pt x="6" y="16"/>
                  </a:lnTo>
                  <a:lnTo>
                    <a:pt x="16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313160" y="51325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22880" y="513864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0" y="0"/>
                  </a:lnTo>
                  <a:lnTo>
                    <a:pt x="1" y="157"/>
                  </a:lnTo>
                  <a:lnTo>
                    <a:pt x="10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29000" y="538164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lnTo>
                    <a:pt x="0" y="10"/>
                  </a:lnTo>
                  <a:lnTo>
                    <a:pt x="8" y="11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35480" y="5388120"/>
              <a:ext cx="17280" cy="60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9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11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36920" y="54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0"/>
                  </a:moveTo>
                  <a:lnTo>
                    <a:pt x="0" y="4"/>
                  </a:lnTo>
                  <a:lnTo>
                    <a:pt x="10" y="22"/>
                  </a:lnTo>
                  <a:lnTo>
                    <a:pt x="17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57800" y="5470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0"/>
                  </a:moveTo>
                  <a:lnTo>
                    <a:pt x="0" y="9"/>
                  </a:lnTo>
                  <a:lnTo>
                    <a:pt x="9" y="10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65720" y="5477040"/>
              <a:ext cx="15840" cy="117360"/>
            </a:xfrm>
            <a:custGeom>
              <a:avLst/>
              <a:gdLst/>
              <a:ahLst/>
              <a:rect l="l" t="t" r="r" b="b"/>
              <a:pathLst>
                <a:path w="10" h="74">
                  <a:moveTo>
                    <a:pt x="9" y="0"/>
                  </a:moveTo>
                  <a:lnTo>
                    <a:pt x="0" y="0"/>
                  </a:lnTo>
                  <a:lnTo>
                    <a:pt x="1" y="74"/>
                  </a:lnTo>
                  <a:lnTo>
                    <a:pt x="10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65720" y="5594400"/>
              <a:ext cx="2844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81560" y="5680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8" y="0"/>
                  </a:moveTo>
                  <a:lnTo>
                    <a:pt x="0" y="4"/>
                  </a:lnTo>
                  <a:lnTo>
                    <a:pt x="10" y="23"/>
                  </a:lnTo>
                  <a:lnTo>
                    <a:pt x="17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95960" y="5713560"/>
              <a:ext cx="15840" cy="442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95960" y="5756400"/>
              <a:ext cx="2844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8" y="0"/>
                  </a:moveTo>
                  <a:lnTo>
                    <a:pt x="0" y="2"/>
                  </a:lnTo>
                  <a:lnTo>
                    <a:pt x="9" y="48"/>
                  </a:lnTo>
                  <a:lnTo>
                    <a:pt x="18" y="4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10000" y="5800680"/>
              <a:ext cx="1764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9"/>
                  </a:moveTo>
                  <a:lnTo>
                    <a:pt x="10" y="20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6480" y="579420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32320" y="579420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40240" y="5796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38800" y="5799240"/>
              <a:ext cx="28440" cy="489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8" y="0"/>
                  </a:moveTo>
                  <a:lnTo>
                    <a:pt x="0" y="3"/>
                  </a:lnTo>
                  <a:lnTo>
                    <a:pt x="9" y="31"/>
                  </a:lnTo>
                  <a:lnTo>
                    <a:pt x="18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54640" y="5840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52840" y="584352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9" y="0"/>
                  </a:moveTo>
                  <a:lnTo>
                    <a:pt x="0" y="3"/>
                  </a:lnTo>
                  <a:lnTo>
                    <a:pt x="10" y="31"/>
                  </a:lnTo>
                  <a:lnTo>
                    <a:pt x="18" y="2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75160" y="588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0"/>
                  </a:moveTo>
                  <a:lnTo>
                    <a:pt x="0" y="10"/>
                  </a:lnTo>
                  <a:lnTo>
                    <a:pt x="9" y="11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83080" y="5888160"/>
              <a:ext cx="1764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1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89560" y="5927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98920" y="588816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29"/>
                  </a:moveTo>
                  <a:lnTo>
                    <a:pt x="9" y="29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8920" y="5829480"/>
              <a:ext cx="27000" cy="6156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36"/>
                  </a:moveTo>
                  <a:lnTo>
                    <a:pt x="8" y="39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13320" y="583092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9" y="0"/>
                  </a:moveTo>
                  <a:lnTo>
                    <a:pt x="0" y="1"/>
                  </a:lnTo>
                  <a:lnTo>
                    <a:pt x="9" y="66"/>
                  </a:lnTo>
                  <a:lnTo>
                    <a:pt x="19" y="6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27720" y="5934240"/>
              <a:ext cx="1728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1" y="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27720" y="583092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10" y="8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41760" y="583092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9" y="0"/>
                  </a:moveTo>
                  <a:lnTo>
                    <a:pt x="0" y="1"/>
                  </a:lnTo>
                  <a:lnTo>
                    <a:pt x="9" y="85"/>
                  </a:lnTo>
                  <a:lnTo>
                    <a:pt x="19" y="8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56160" y="5964120"/>
              <a:ext cx="17280" cy="130320"/>
            </a:xfrm>
            <a:custGeom>
              <a:avLst/>
              <a:gdLst/>
              <a:ahLst/>
              <a:rect l="l" t="t" r="r" b="b"/>
              <a:pathLst>
                <a:path w="11" h="82">
                  <a:moveTo>
                    <a:pt x="10" y="0"/>
                  </a:moveTo>
                  <a:lnTo>
                    <a:pt x="0" y="0"/>
                  </a:lnTo>
                  <a:lnTo>
                    <a:pt x="1" y="82"/>
                  </a:lnTo>
                  <a:lnTo>
                    <a:pt x="11" y="8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62640" y="60879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72000" y="5830920"/>
              <a:ext cx="15840" cy="263520"/>
            </a:xfrm>
            <a:custGeom>
              <a:avLst/>
              <a:gdLst/>
              <a:ahLst/>
              <a:rect l="l" t="t" r="r" b="b"/>
              <a:pathLst>
                <a:path w="10" h="166">
                  <a:moveTo>
                    <a:pt x="0" y="166"/>
                  </a:moveTo>
                  <a:lnTo>
                    <a:pt x="9" y="16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72000" y="525780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361"/>
                  </a:moveTo>
                  <a:lnTo>
                    <a:pt x="9" y="36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400" y="5051520"/>
              <a:ext cx="29880" cy="20772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30"/>
                  </a:moveTo>
                  <a:lnTo>
                    <a:pt x="10" y="13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02240" y="4681440"/>
              <a:ext cx="15840" cy="370080"/>
            </a:xfrm>
            <a:custGeom>
              <a:avLst/>
              <a:gdLst/>
              <a:ahLst/>
              <a:rect l="l" t="t" r="r" b="b"/>
              <a:pathLst>
                <a:path w="10" h="233">
                  <a:moveTo>
                    <a:pt x="0" y="233"/>
                  </a:moveTo>
                  <a:lnTo>
                    <a:pt x="9" y="23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02240" y="4403880"/>
              <a:ext cx="28440" cy="279360"/>
            </a:xfrm>
            <a:custGeom>
              <a:avLst/>
              <a:gdLst/>
              <a:ahLst/>
              <a:rect l="l" t="t" r="r" b="b"/>
              <a:pathLst>
                <a:path w="18" h="176">
                  <a:moveTo>
                    <a:pt x="0" y="175"/>
                  </a:moveTo>
                  <a:lnTo>
                    <a:pt x="9" y="176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18080" y="4397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16280" y="4314960"/>
              <a:ext cx="2880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0" y="56"/>
                  </a:moveTo>
                  <a:lnTo>
                    <a:pt x="8" y="5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30680" y="424008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46"/>
                  </a:moveTo>
                  <a:lnTo>
                    <a:pt x="9" y="48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5280" y="6021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4920" y="6035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5280" y="5697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4920" y="571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6360" y="5388120"/>
              <a:ext cx="2808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6000" y="5402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6360" y="50641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6000" y="507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6360" y="47419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6000" y="4756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6360" y="441792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6000" y="4430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360" y="41083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76000" y="412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6360" y="378468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6000" y="379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6360" y="346068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6000" y="347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516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4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238400" y="6257880"/>
              <a:ext cx="4870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3768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6832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6760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1300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1228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5588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5516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86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85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32280" y="6257880"/>
              <a:ext cx="4856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3156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75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74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71280" y="6502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16200000">
              <a:off x="-308880" y="5104440"/>
              <a:ext cx="127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C/RC Price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6920" y="61246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26920" y="58006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26920" y="5491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6920" y="5167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6920" y="48448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6920" y="45212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6920" y="42116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26920" y="38876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6920" y="356400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870120" y="6079680"/>
              <a:ext cx="28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141588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1944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48904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033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562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10832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4651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66880" y="57229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36"/>
                  </a:moveTo>
                  <a:lnTo>
                    <a:pt x="5" y="44"/>
                  </a:lnTo>
                  <a:lnTo>
                    <a:pt x="69" y="7"/>
                  </a:lnTo>
                  <a:lnTo>
                    <a:pt x="65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73080" y="5721480"/>
              <a:ext cx="119160" cy="1584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0"/>
                  </a:moveTo>
                  <a:lnTo>
                    <a:pt x="0" y="9"/>
                  </a:lnTo>
                  <a:lnTo>
                    <a:pt x="75" y="10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87560" y="557676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0" y="93"/>
                  </a:moveTo>
                  <a:lnTo>
                    <a:pt x="7" y="98"/>
                  </a:lnTo>
                  <a:lnTo>
                    <a:pt x="72" y="5"/>
                  </a:lnTo>
                  <a:lnTo>
                    <a:pt x="64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87280" y="5226120"/>
              <a:ext cx="117720" cy="355680"/>
            </a:xfrm>
            <a:custGeom>
              <a:avLst/>
              <a:gdLst/>
              <a:ahLst/>
              <a:rect l="l" t="t" r="r" b="b"/>
              <a:pathLst>
                <a:path w="74" h="224">
                  <a:moveTo>
                    <a:pt x="0" y="222"/>
                  </a:moveTo>
                  <a:lnTo>
                    <a:pt x="9" y="224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95280" y="519120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0" y="19"/>
                  </a:moveTo>
                  <a:lnTo>
                    <a:pt x="3" y="27"/>
                  </a:lnTo>
                  <a:lnTo>
                    <a:pt x="77" y="8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11200" y="50896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5"/>
                  </a:moveTo>
                  <a:lnTo>
                    <a:pt x="6" y="71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19200" y="508788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0"/>
                  </a:moveTo>
                  <a:lnTo>
                    <a:pt x="0" y="9"/>
                  </a:lnTo>
                  <a:lnTo>
                    <a:pt x="65" y="10"/>
                  </a:lnTo>
                  <a:lnTo>
                    <a:pt x="6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20720" y="5087880"/>
              <a:ext cx="120600" cy="586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3" y="0"/>
                  </a:moveTo>
                  <a:lnTo>
                    <a:pt x="0" y="8"/>
                  </a:lnTo>
                  <a:lnTo>
                    <a:pt x="73" y="37"/>
                  </a:lnTo>
                  <a:lnTo>
                    <a:pt x="76" y="2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736640" y="5132520"/>
              <a:ext cx="106560" cy="4104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2" y="0"/>
                  </a:moveTo>
                  <a:lnTo>
                    <a:pt x="0" y="9"/>
                  </a:lnTo>
                  <a:lnTo>
                    <a:pt x="65" y="26"/>
                  </a:lnTo>
                  <a:lnTo>
                    <a:pt x="67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38160" y="5089680"/>
              <a:ext cx="111240" cy="838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46"/>
                  </a:moveTo>
                  <a:lnTo>
                    <a:pt x="5" y="53"/>
                  </a:lnTo>
                  <a:lnTo>
                    <a:pt x="70" y="7"/>
                  </a:lnTo>
                  <a:lnTo>
                    <a:pt x="6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40040" y="488484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0" y="130"/>
                  </a:moveTo>
                  <a:lnTo>
                    <a:pt x="7" y="134"/>
                  </a:lnTo>
                  <a:lnTo>
                    <a:pt x="81" y="4"/>
                  </a:lnTo>
                  <a:lnTo>
                    <a:pt x="74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57400" y="488304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7" y="0"/>
                  </a:moveTo>
                  <a:lnTo>
                    <a:pt x="0" y="6"/>
                  </a:lnTo>
                  <a:lnTo>
                    <a:pt x="65" y="81"/>
                  </a:lnTo>
                  <a:lnTo>
                    <a:pt x="72" y="7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58920" y="5005440"/>
              <a:ext cx="115920" cy="326880"/>
            </a:xfrm>
            <a:custGeom>
              <a:avLst/>
              <a:gdLst/>
              <a:ahLst/>
              <a:rect l="l" t="t" r="r" b="b"/>
              <a:pathLst>
                <a:path w="73" h="206">
                  <a:moveTo>
                    <a:pt x="8" y="0"/>
                  </a:moveTo>
                  <a:lnTo>
                    <a:pt x="0" y="2"/>
                  </a:lnTo>
                  <a:lnTo>
                    <a:pt x="65" y="206"/>
                  </a:lnTo>
                  <a:lnTo>
                    <a:pt x="73" y="20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63680" y="5327640"/>
              <a:ext cx="12852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" y="0"/>
                  </a:moveTo>
                  <a:lnTo>
                    <a:pt x="0" y="5"/>
                  </a:lnTo>
                  <a:lnTo>
                    <a:pt x="74" y="106"/>
                  </a:lnTo>
                  <a:lnTo>
                    <a:pt x="81" y="10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4280" y="545616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18"/>
                  </a:moveTo>
                  <a:lnTo>
                    <a:pt x="2" y="26"/>
                  </a:lnTo>
                  <a:lnTo>
                    <a:pt x="67" y="9"/>
                  </a:lnTo>
                  <a:lnTo>
                    <a:pt x="6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82920" y="5181480"/>
              <a:ext cx="115920" cy="28584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176"/>
                  </a:moveTo>
                  <a:lnTo>
                    <a:pt x="8" y="18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87680" y="5018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101"/>
                  </a:moveTo>
                  <a:lnTo>
                    <a:pt x="7" y="107"/>
                  </a:lnTo>
                  <a:lnTo>
                    <a:pt x="81" y="5"/>
                  </a:lnTo>
                  <a:lnTo>
                    <a:pt x="7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05040" y="4842000"/>
              <a:ext cx="114480" cy="18252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0" y="111"/>
                  </a:moveTo>
                  <a:lnTo>
                    <a:pt x="7" y="115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06560" y="45036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214"/>
                  </a:moveTo>
                  <a:lnTo>
                    <a:pt x="8" y="216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09880" y="4503600"/>
              <a:ext cx="131760" cy="533520"/>
            </a:xfrm>
            <a:custGeom>
              <a:avLst/>
              <a:gdLst/>
              <a:ahLst/>
              <a:rect l="l" t="t" r="r" b="b"/>
              <a:pathLst>
                <a:path w="83" h="336">
                  <a:moveTo>
                    <a:pt x="8" y="0"/>
                  </a:moveTo>
                  <a:lnTo>
                    <a:pt x="0" y="3"/>
                  </a:lnTo>
                  <a:lnTo>
                    <a:pt x="74" y="336"/>
                  </a:lnTo>
                  <a:lnTo>
                    <a:pt x="83" y="3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27240" y="4227480"/>
              <a:ext cx="119160" cy="809640"/>
            </a:xfrm>
            <a:custGeom>
              <a:avLst/>
              <a:gdLst/>
              <a:ahLst/>
              <a:rect l="l" t="t" r="r" b="b"/>
              <a:pathLst>
                <a:path w="75" h="510">
                  <a:moveTo>
                    <a:pt x="0" y="509"/>
                  </a:moveTo>
                  <a:lnTo>
                    <a:pt x="10" y="510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32000" y="413388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0" y="55"/>
                  </a:moveTo>
                  <a:lnTo>
                    <a:pt x="6" y="63"/>
                  </a:lnTo>
                  <a:lnTo>
                    <a:pt x="70" y="7"/>
                  </a:lnTo>
                  <a:lnTo>
                    <a:pt x="64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32080" y="4137120"/>
              <a:ext cx="131760" cy="5619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" y="0"/>
                  </a:moveTo>
                  <a:lnTo>
                    <a:pt x="0" y="2"/>
                  </a:lnTo>
                  <a:lnTo>
                    <a:pt x="74" y="354"/>
                  </a:lnTo>
                  <a:lnTo>
                    <a:pt x="83" y="35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49800" y="4697280"/>
              <a:ext cx="117360" cy="546120"/>
            </a:xfrm>
            <a:custGeom>
              <a:avLst/>
              <a:gdLst/>
              <a:ahLst/>
              <a:rect l="l" t="t" r="r" b="b"/>
              <a:pathLst>
                <a:path w="74" h="344">
                  <a:moveTo>
                    <a:pt x="9" y="0"/>
                  </a:moveTo>
                  <a:lnTo>
                    <a:pt x="0" y="1"/>
                  </a:lnTo>
                  <a:lnTo>
                    <a:pt x="65" y="344"/>
                  </a:lnTo>
                  <a:lnTo>
                    <a:pt x="74" y="3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452760" y="4535640"/>
              <a:ext cx="119160" cy="707760"/>
            </a:xfrm>
            <a:custGeom>
              <a:avLst/>
              <a:gdLst/>
              <a:ahLst/>
              <a:rect l="l" t="t" r="r" b="b"/>
              <a:pathLst>
                <a:path w="75" h="446">
                  <a:moveTo>
                    <a:pt x="0" y="445"/>
                  </a:moveTo>
                  <a:lnTo>
                    <a:pt x="10" y="446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56080" y="3930480"/>
              <a:ext cx="131760" cy="606600"/>
            </a:xfrm>
            <a:custGeom>
              <a:avLst/>
              <a:gdLst/>
              <a:ahLst/>
              <a:rect l="l" t="t" r="r" b="b"/>
              <a:pathLst>
                <a:path w="83" h="382">
                  <a:moveTo>
                    <a:pt x="0" y="380"/>
                  </a:moveTo>
                  <a:lnTo>
                    <a:pt x="8" y="382"/>
                  </a:lnTo>
                  <a:lnTo>
                    <a:pt x="83" y="2"/>
                  </a:lnTo>
                  <a:lnTo>
                    <a:pt x="74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73440" y="3930480"/>
              <a:ext cx="117360" cy="489240"/>
            </a:xfrm>
            <a:custGeom>
              <a:avLst/>
              <a:gdLst/>
              <a:ahLst/>
              <a:rect l="l" t="t" r="r" b="b"/>
              <a:pathLst>
                <a:path w="74" h="308">
                  <a:moveTo>
                    <a:pt x="9" y="0"/>
                  </a:moveTo>
                  <a:lnTo>
                    <a:pt x="0" y="2"/>
                  </a:lnTo>
                  <a:lnTo>
                    <a:pt x="65" y="308"/>
                  </a:lnTo>
                  <a:lnTo>
                    <a:pt x="74" y="30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76760" y="4417920"/>
              <a:ext cx="118800" cy="825480"/>
            </a:xfrm>
            <a:custGeom>
              <a:avLst/>
              <a:gdLst/>
              <a:ahLst/>
              <a:rect l="l" t="t" r="r" b="b"/>
              <a:pathLst>
                <a:path w="75" h="520">
                  <a:moveTo>
                    <a:pt x="10" y="0"/>
                  </a:moveTo>
                  <a:lnTo>
                    <a:pt x="0" y="1"/>
                  </a:lnTo>
                  <a:lnTo>
                    <a:pt x="65" y="520"/>
                  </a:lnTo>
                  <a:lnTo>
                    <a:pt x="75" y="5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79720" y="523872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9" y="0"/>
                  </a:moveTo>
                  <a:lnTo>
                    <a:pt x="0" y="4"/>
                  </a:lnTo>
                  <a:lnTo>
                    <a:pt x="75" y="161"/>
                  </a:lnTo>
                  <a:lnTo>
                    <a:pt x="83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98880" y="5594400"/>
              <a:ext cx="28440" cy="12060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9" y="0"/>
                  </a:moveTo>
                  <a:lnTo>
                    <a:pt x="0" y="1"/>
                  </a:lnTo>
                  <a:lnTo>
                    <a:pt x="9" y="76"/>
                  </a:lnTo>
                  <a:lnTo>
                    <a:pt x="18" y="7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14720" y="57070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19400" y="57056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27320" y="5551560"/>
              <a:ext cx="2880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0" y="102"/>
                  </a:moveTo>
                  <a:lnTo>
                    <a:pt x="10" y="10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41720" y="5551560"/>
              <a:ext cx="15840" cy="162000"/>
            </a:xfrm>
            <a:custGeom>
              <a:avLst/>
              <a:gdLst/>
              <a:ahLst/>
              <a:rect l="l" t="t" r="r" b="b"/>
              <a:pathLst>
                <a:path w="10" h="102">
                  <a:moveTo>
                    <a:pt x="9" y="0"/>
                  </a:moveTo>
                  <a:lnTo>
                    <a:pt x="0" y="0"/>
                  </a:lnTo>
                  <a:lnTo>
                    <a:pt x="1" y="102"/>
                  </a:lnTo>
                  <a:lnTo>
                    <a:pt x="10" y="10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41720" y="5594400"/>
              <a:ext cx="3024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0" y="75"/>
                  </a:moveTo>
                  <a:lnTo>
                    <a:pt x="9" y="76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7560" y="5589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71960" y="5462640"/>
              <a:ext cx="15840" cy="147600"/>
            </a:xfrm>
            <a:custGeom>
              <a:avLst/>
              <a:gdLst/>
              <a:ahLst/>
              <a:rect l="l" t="t" r="r" b="b"/>
              <a:pathLst>
                <a:path w="10" h="93">
                  <a:moveTo>
                    <a:pt x="0" y="93"/>
                  </a:moveTo>
                  <a:lnTo>
                    <a:pt x="9" y="9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73400" y="54579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86360" y="546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9" y="10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86360" y="538632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7"/>
                  </a:moveTo>
                  <a:lnTo>
                    <a:pt x="8" y="50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00400" y="5329080"/>
              <a:ext cx="28800" cy="6048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6"/>
                  </a:moveTo>
                  <a:lnTo>
                    <a:pt x="9" y="38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16240" y="5227560"/>
              <a:ext cx="16200" cy="10332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65"/>
                  </a:moveTo>
                  <a:lnTo>
                    <a:pt x="9" y="65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6240" y="50943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4"/>
                  </a:moveTo>
                  <a:lnTo>
                    <a:pt x="9" y="85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30640" y="4991040"/>
              <a:ext cx="17640" cy="10332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65"/>
                  </a:moveTo>
                  <a:lnTo>
                    <a:pt x="10" y="65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30640" y="4784760"/>
              <a:ext cx="28440" cy="208080"/>
            </a:xfrm>
            <a:custGeom>
              <a:avLst/>
              <a:gdLst/>
              <a:ahLst/>
              <a:rect l="l" t="t" r="r" b="b"/>
              <a:pathLst>
                <a:path w="18" h="131">
                  <a:moveTo>
                    <a:pt x="0" y="130"/>
                  </a:moveTo>
                  <a:lnTo>
                    <a:pt x="10" y="131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45040" y="47829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0"/>
                  </a:moveTo>
                  <a:lnTo>
                    <a:pt x="0" y="3"/>
                  </a:lnTo>
                  <a:lnTo>
                    <a:pt x="9" y="32"/>
                  </a:lnTo>
                  <a:lnTo>
                    <a:pt x="17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59080" y="4830840"/>
              <a:ext cx="17640" cy="5724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9" y="0"/>
                  </a:moveTo>
                  <a:lnTo>
                    <a:pt x="0" y="0"/>
                  </a:lnTo>
                  <a:lnTo>
                    <a:pt x="1" y="36"/>
                  </a:lnTo>
                  <a:lnTo>
                    <a:pt x="11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59080" y="4888080"/>
              <a:ext cx="30240" cy="164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9" y="0"/>
                  </a:moveTo>
                  <a:lnTo>
                    <a:pt x="0" y="1"/>
                  </a:lnTo>
                  <a:lnTo>
                    <a:pt x="9" y="104"/>
                  </a:lnTo>
                  <a:lnTo>
                    <a:pt x="19" y="10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76720" y="5046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480" y="50515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0" y="0"/>
                  </a:moveTo>
                  <a:lnTo>
                    <a:pt x="0" y="1"/>
                  </a:lnTo>
                  <a:lnTo>
                    <a:pt x="10" y="121"/>
                  </a:lnTo>
                  <a:lnTo>
                    <a:pt x="19" y="1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89320" y="5181480"/>
              <a:ext cx="28800" cy="6192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7"/>
                  </a:moveTo>
                  <a:lnTo>
                    <a:pt x="8" y="39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3720" y="51832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0"/>
                  </a:moveTo>
                  <a:lnTo>
                    <a:pt x="0" y="0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03720" y="515448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0" y="65"/>
                  </a:moveTo>
                  <a:lnTo>
                    <a:pt x="10" y="66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19560" y="5006880"/>
              <a:ext cx="30240" cy="14940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9" y="94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35400" y="5000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35400" y="49863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7" y="1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48000" y="4991040"/>
              <a:ext cx="16200" cy="446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48000" y="50338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8" y="0"/>
                  </a:moveTo>
                  <a:lnTo>
                    <a:pt x="0" y="2"/>
                  </a:lnTo>
                  <a:lnTo>
                    <a:pt x="9" y="39"/>
                  </a:lnTo>
                  <a:lnTo>
                    <a:pt x="17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8880" y="50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76800" y="5094360"/>
              <a:ext cx="17280" cy="73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0" y="0"/>
                  </a:moveTo>
                  <a:lnTo>
                    <a:pt x="0" y="0"/>
                  </a:lnTo>
                  <a:lnTo>
                    <a:pt x="1" y="46"/>
                  </a:lnTo>
                  <a:lnTo>
                    <a:pt x="11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76800" y="5165640"/>
              <a:ext cx="28440" cy="637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9" y="0"/>
                  </a:moveTo>
                  <a:lnTo>
                    <a:pt x="0" y="2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92640" y="51544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46"/>
                  </a:moveTo>
                  <a:lnTo>
                    <a:pt x="9" y="4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94080" y="51339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0"/>
                  </a:moveTo>
                  <a:lnTo>
                    <a:pt x="6" y="16"/>
                  </a:lnTo>
                  <a:lnTo>
                    <a:pt x="16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313160" y="51325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22880" y="513864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0" y="0"/>
                  </a:lnTo>
                  <a:lnTo>
                    <a:pt x="1" y="157"/>
                  </a:lnTo>
                  <a:lnTo>
                    <a:pt x="10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29000" y="538164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lnTo>
                    <a:pt x="0" y="10"/>
                  </a:lnTo>
                  <a:lnTo>
                    <a:pt x="8" y="11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335480" y="5388120"/>
              <a:ext cx="17280" cy="60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9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11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36920" y="54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0"/>
                  </a:moveTo>
                  <a:lnTo>
                    <a:pt x="0" y="4"/>
                  </a:lnTo>
                  <a:lnTo>
                    <a:pt x="10" y="22"/>
                  </a:lnTo>
                  <a:lnTo>
                    <a:pt x="17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57800" y="5470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0"/>
                  </a:moveTo>
                  <a:lnTo>
                    <a:pt x="0" y="9"/>
                  </a:lnTo>
                  <a:lnTo>
                    <a:pt x="9" y="10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65720" y="5477040"/>
              <a:ext cx="15840" cy="117360"/>
            </a:xfrm>
            <a:custGeom>
              <a:avLst/>
              <a:gdLst/>
              <a:ahLst/>
              <a:rect l="l" t="t" r="r" b="b"/>
              <a:pathLst>
                <a:path w="10" h="74">
                  <a:moveTo>
                    <a:pt x="9" y="0"/>
                  </a:moveTo>
                  <a:lnTo>
                    <a:pt x="0" y="0"/>
                  </a:lnTo>
                  <a:lnTo>
                    <a:pt x="1" y="74"/>
                  </a:lnTo>
                  <a:lnTo>
                    <a:pt x="10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65720" y="5594400"/>
              <a:ext cx="2844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81560" y="5680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8" y="0"/>
                  </a:moveTo>
                  <a:lnTo>
                    <a:pt x="0" y="4"/>
                  </a:lnTo>
                  <a:lnTo>
                    <a:pt x="10" y="23"/>
                  </a:lnTo>
                  <a:lnTo>
                    <a:pt x="17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95960" y="5713560"/>
              <a:ext cx="15840" cy="442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395960" y="5756400"/>
              <a:ext cx="2844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8" y="0"/>
                  </a:moveTo>
                  <a:lnTo>
                    <a:pt x="0" y="2"/>
                  </a:lnTo>
                  <a:lnTo>
                    <a:pt x="9" y="48"/>
                  </a:lnTo>
                  <a:lnTo>
                    <a:pt x="18" y="4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10000" y="5800680"/>
              <a:ext cx="1764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9"/>
                  </a:moveTo>
                  <a:lnTo>
                    <a:pt x="10" y="20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16480" y="579420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32320" y="579420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40240" y="5796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38800" y="5799240"/>
              <a:ext cx="28440" cy="489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8" y="0"/>
                  </a:moveTo>
                  <a:lnTo>
                    <a:pt x="0" y="3"/>
                  </a:lnTo>
                  <a:lnTo>
                    <a:pt x="9" y="31"/>
                  </a:lnTo>
                  <a:lnTo>
                    <a:pt x="18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454640" y="5840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52840" y="584352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9" y="0"/>
                  </a:moveTo>
                  <a:lnTo>
                    <a:pt x="0" y="3"/>
                  </a:lnTo>
                  <a:lnTo>
                    <a:pt x="10" y="31"/>
                  </a:lnTo>
                  <a:lnTo>
                    <a:pt x="18" y="2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75160" y="588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0"/>
                  </a:moveTo>
                  <a:lnTo>
                    <a:pt x="0" y="10"/>
                  </a:lnTo>
                  <a:lnTo>
                    <a:pt x="9" y="11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83080" y="5888160"/>
              <a:ext cx="1764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1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489560" y="5927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98920" y="588816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29"/>
                  </a:moveTo>
                  <a:lnTo>
                    <a:pt x="9" y="29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498920" y="5829480"/>
              <a:ext cx="27000" cy="6156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36"/>
                  </a:moveTo>
                  <a:lnTo>
                    <a:pt x="8" y="39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13320" y="583092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9" y="0"/>
                  </a:moveTo>
                  <a:lnTo>
                    <a:pt x="0" y="1"/>
                  </a:lnTo>
                  <a:lnTo>
                    <a:pt x="9" y="66"/>
                  </a:lnTo>
                  <a:lnTo>
                    <a:pt x="19" y="6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27720" y="5934240"/>
              <a:ext cx="1728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1" y="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27720" y="583092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10" y="8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41760" y="583092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9" y="0"/>
                  </a:moveTo>
                  <a:lnTo>
                    <a:pt x="0" y="1"/>
                  </a:lnTo>
                  <a:lnTo>
                    <a:pt x="9" y="85"/>
                  </a:lnTo>
                  <a:lnTo>
                    <a:pt x="19" y="8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6160" y="5964120"/>
              <a:ext cx="17280" cy="130320"/>
            </a:xfrm>
            <a:custGeom>
              <a:avLst/>
              <a:gdLst/>
              <a:ahLst/>
              <a:rect l="l" t="t" r="r" b="b"/>
              <a:pathLst>
                <a:path w="11" h="82">
                  <a:moveTo>
                    <a:pt x="10" y="0"/>
                  </a:moveTo>
                  <a:lnTo>
                    <a:pt x="0" y="0"/>
                  </a:lnTo>
                  <a:lnTo>
                    <a:pt x="1" y="82"/>
                  </a:lnTo>
                  <a:lnTo>
                    <a:pt x="11" y="8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62640" y="60879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572000" y="5830920"/>
              <a:ext cx="15840" cy="263520"/>
            </a:xfrm>
            <a:custGeom>
              <a:avLst/>
              <a:gdLst/>
              <a:ahLst/>
              <a:rect l="l" t="t" r="r" b="b"/>
              <a:pathLst>
                <a:path w="10" h="166">
                  <a:moveTo>
                    <a:pt x="0" y="166"/>
                  </a:moveTo>
                  <a:lnTo>
                    <a:pt x="9" y="16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525780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361"/>
                  </a:moveTo>
                  <a:lnTo>
                    <a:pt x="9" y="36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86400" y="5051520"/>
              <a:ext cx="29880" cy="20772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30"/>
                  </a:moveTo>
                  <a:lnTo>
                    <a:pt x="10" y="13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2240" y="4681440"/>
              <a:ext cx="15840" cy="370080"/>
            </a:xfrm>
            <a:custGeom>
              <a:avLst/>
              <a:gdLst/>
              <a:ahLst/>
              <a:rect l="l" t="t" r="r" b="b"/>
              <a:pathLst>
                <a:path w="10" h="233">
                  <a:moveTo>
                    <a:pt x="0" y="233"/>
                  </a:moveTo>
                  <a:lnTo>
                    <a:pt x="9" y="23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02240" y="4403880"/>
              <a:ext cx="28440" cy="279360"/>
            </a:xfrm>
            <a:custGeom>
              <a:avLst/>
              <a:gdLst/>
              <a:ahLst/>
              <a:rect l="l" t="t" r="r" b="b"/>
              <a:pathLst>
                <a:path w="18" h="176">
                  <a:moveTo>
                    <a:pt x="0" y="175"/>
                  </a:moveTo>
                  <a:lnTo>
                    <a:pt x="9" y="176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18080" y="4397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16280" y="4314960"/>
              <a:ext cx="2880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0" y="56"/>
                  </a:moveTo>
                  <a:lnTo>
                    <a:pt x="8" y="5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30680" y="424008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46"/>
                  </a:moveTo>
                  <a:lnTo>
                    <a:pt x="9" y="48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5280" y="6021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5280" y="5697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6360" y="5388120"/>
              <a:ext cx="2808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6360" y="50641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6360" y="47419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6360" y="441792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6360" y="41083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6360" y="378468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360" y="346068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516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38400" y="6257880"/>
              <a:ext cx="4870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6832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1300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5588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86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32280" y="6257880"/>
              <a:ext cx="4856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75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1087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19080" y="3489480"/>
              <a:ext cx="3853080" cy="273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87400" y="6219720"/>
              <a:ext cx="65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87400" y="57690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87400" y="53038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87400" y="48546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7400" y="44053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87400" y="39402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87400" y="34894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919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147636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0178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57508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1161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6720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4213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703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27080" y="3627360"/>
              <a:ext cx="112680" cy="393840"/>
            </a:xfrm>
            <a:custGeom>
              <a:avLst/>
              <a:gdLst/>
              <a:ahLst/>
              <a:rect l="l" t="t" r="r" b="b"/>
              <a:pathLst>
                <a:path w="142" h="495">
                  <a:moveTo>
                    <a:pt x="19" y="0"/>
                  </a:moveTo>
                  <a:lnTo>
                    <a:pt x="0" y="3"/>
                  </a:lnTo>
                  <a:lnTo>
                    <a:pt x="21" y="119"/>
                  </a:lnTo>
                  <a:lnTo>
                    <a:pt x="42" y="237"/>
                  </a:lnTo>
                  <a:lnTo>
                    <a:pt x="62" y="374"/>
                  </a:lnTo>
                  <a:lnTo>
                    <a:pt x="64" y="377"/>
                  </a:lnTo>
                  <a:lnTo>
                    <a:pt x="126" y="495"/>
                  </a:lnTo>
                  <a:lnTo>
                    <a:pt x="142" y="485"/>
                  </a:lnTo>
                  <a:lnTo>
                    <a:pt x="79" y="368"/>
                  </a:lnTo>
                  <a:lnTo>
                    <a:pt x="71" y="373"/>
                  </a:lnTo>
                  <a:lnTo>
                    <a:pt x="81" y="371"/>
                  </a:lnTo>
                  <a:lnTo>
                    <a:pt x="60" y="234"/>
                  </a:lnTo>
                  <a:lnTo>
                    <a:pt x="40" y="11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27160" y="4011480"/>
              <a:ext cx="355680" cy="446400"/>
            </a:xfrm>
            <a:custGeom>
              <a:avLst/>
              <a:gdLst/>
              <a:ahLst/>
              <a:rect l="l" t="t" r="r" b="b"/>
              <a:pathLst>
                <a:path w="447" h="560">
                  <a:moveTo>
                    <a:pt x="16" y="0"/>
                  </a:moveTo>
                  <a:lnTo>
                    <a:pt x="0" y="13"/>
                  </a:lnTo>
                  <a:lnTo>
                    <a:pt x="83" y="148"/>
                  </a:lnTo>
                  <a:lnTo>
                    <a:pt x="83" y="150"/>
                  </a:lnTo>
                  <a:lnTo>
                    <a:pt x="187" y="287"/>
                  </a:lnTo>
                  <a:lnTo>
                    <a:pt x="309" y="444"/>
                  </a:lnTo>
                  <a:lnTo>
                    <a:pt x="311" y="444"/>
                  </a:lnTo>
                  <a:lnTo>
                    <a:pt x="435" y="560"/>
                  </a:lnTo>
                  <a:lnTo>
                    <a:pt x="447" y="545"/>
                  </a:lnTo>
                  <a:lnTo>
                    <a:pt x="323" y="429"/>
                  </a:lnTo>
                  <a:lnTo>
                    <a:pt x="316" y="436"/>
                  </a:lnTo>
                  <a:lnTo>
                    <a:pt x="323" y="429"/>
                  </a:lnTo>
                  <a:lnTo>
                    <a:pt x="200" y="273"/>
                  </a:lnTo>
                  <a:lnTo>
                    <a:pt x="97" y="135"/>
                  </a:lnTo>
                  <a:lnTo>
                    <a:pt x="90" y="142"/>
                  </a:lnTo>
                  <a:lnTo>
                    <a:pt x="99" y="1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73120" y="4443480"/>
              <a:ext cx="549360" cy="279360"/>
            </a:xfrm>
            <a:custGeom>
              <a:avLst/>
              <a:gdLst/>
              <a:ahLst/>
              <a:rect l="l" t="t" r="r" b="b"/>
              <a:pathLst>
                <a:path w="692" h="351">
                  <a:moveTo>
                    <a:pt x="12" y="0"/>
                  </a:moveTo>
                  <a:lnTo>
                    <a:pt x="0" y="16"/>
                  </a:lnTo>
                  <a:lnTo>
                    <a:pt x="145" y="114"/>
                  </a:lnTo>
                  <a:lnTo>
                    <a:pt x="145" y="114"/>
                  </a:lnTo>
                  <a:lnTo>
                    <a:pt x="330" y="212"/>
                  </a:lnTo>
                  <a:lnTo>
                    <a:pt x="332" y="214"/>
                  </a:lnTo>
                  <a:lnTo>
                    <a:pt x="684" y="351"/>
                  </a:lnTo>
                  <a:lnTo>
                    <a:pt x="692" y="333"/>
                  </a:lnTo>
                  <a:lnTo>
                    <a:pt x="340" y="196"/>
                  </a:lnTo>
                  <a:lnTo>
                    <a:pt x="335" y="204"/>
                  </a:lnTo>
                  <a:lnTo>
                    <a:pt x="340" y="196"/>
                  </a:lnTo>
                  <a:lnTo>
                    <a:pt x="156" y="98"/>
                  </a:lnTo>
                  <a:lnTo>
                    <a:pt x="150" y="106"/>
                  </a:lnTo>
                  <a:lnTo>
                    <a:pt x="157" y="9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14560" y="4708440"/>
              <a:ext cx="561960" cy="154080"/>
            </a:xfrm>
            <a:custGeom>
              <a:avLst/>
              <a:gdLst/>
              <a:ahLst/>
              <a:rect l="l" t="t" r="r" b="b"/>
              <a:pathLst>
                <a:path w="708" h="193">
                  <a:moveTo>
                    <a:pt x="7" y="0"/>
                  </a:moveTo>
                  <a:lnTo>
                    <a:pt x="0" y="18"/>
                  </a:lnTo>
                  <a:lnTo>
                    <a:pt x="164" y="77"/>
                  </a:lnTo>
                  <a:lnTo>
                    <a:pt x="166" y="77"/>
                  </a:lnTo>
                  <a:lnTo>
                    <a:pt x="352" y="116"/>
                  </a:lnTo>
                  <a:lnTo>
                    <a:pt x="354" y="106"/>
                  </a:lnTo>
                  <a:lnTo>
                    <a:pt x="352" y="116"/>
                  </a:lnTo>
                  <a:lnTo>
                    <a:pt x="702" y="193"/>
                  </a:lnTo>
                  <a:lnTo>
                    <a:pt x="708" y="173"/>
                  </a:lnTo>
                  <a:lnTo>
                    <a:pt x="357" y="97"/>
                  </a:lnTo>
                  <a:lnTo>
                    <a:pt x="355" y="97"/>
                  </a:lnTo>
                  <a:lnTo>
                    <a:pt x="169" y="57"/>
                  </a:lnTo>
                  <a:lnTo>
                    <a:pt x="167" y="67"/>
                  </a:lnTo>
                  <a:lnTo>
                    <a:pt x="171" y="5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73280" y="4846680"/>
              <a:ext cx="542880" cy="108000"/>
            </a:xfrm>
            <a:custGeom>
              <a:avLst/>
              <a:gdLst/>
              <a:ahLst/>
              <a:rect l="l" t="t" r="r" b="b"/>
              <a:pathLst>
                <a:path w="686" h="138">
                  <a:moveTo>
                    <a:pt x="4" y="0"/>
                  </a:moveTo>
                  <a:lnTo>
                    <a:pt x="0" y="20"/>
                  </a:lnTo>
                  <a:lnTo>
                    <a:pt x="332" y="79"/>
                  </a:lnTo>
                  <a:lnTo>
                    <a:pt x="682" y="138"/>
                  </a:lnTo>
                  <a:lnTo>
                    <a:pt x="686" y="118"/>
                  </a:lnTo>
                  <a:lnTo>
                    <a:pt x="335" y="5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16160" y="4940280"/>
              <a:ext cx="557280" cy="77760"/>
            </a:xfrm>
            <a:custGeom>
              <a:avLst/>
              <a:gdLst/>
              <a:ahLst/>
              <a:rect l="l" t="t" r="r" b="b"/>
              <a:pathLst>
                <a:path w="703" h="98">
                  <a:moveTo>
                    <a:pt x="2" y="0"/>
                  </a:moveTo>
                  <a:lnTo>
                    <a:pt x="0" y="20"/>
                  </a:lnTo>
                  <a:lnTo>
                    <a:pt x="351" y="59"/>
                  </a:lnTo>
                  <a:lnTo>
                    <a:pt x="701" y="98"/>
                  </a:lnTo>
                  <a:lnTo>
                    <a:pt x="703" y="79"/>
                  </a:lnTo>
                  <a:lnTo>
                    <a:pt x="352" y="3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27080" y="4264200"/>
              <a:ext cx="112680" cy="285480"/>
            </a:xfrm>
            <a:custGeom>
              <a:avLst/>
              <a:gdLst/>
              <a:ahLst/>
              <a:rect l="l" t="t" r="r" b="b"/>
              <a:pathLst>
                <a:path w="142" h="359">
                  <a:moveTo>
                    <a:pt x="19" y="0"/>
                  </a:moveTo>
                  <a:lnTo>
                    <a:pt x="0" y="5"/>
                  </a:lnTo>
                  <a:lnTo>
                    <a:pt x="21" y="83"/>
                  </a:lnTo>
                  <a:lnTo>
                    <a:pt x="29" y="80"/>
                  </a:lnTo>
                  <a:lnTo>
                    <a:pt x="21" y="81"/>
                  </a:lnTo>
                  <a:lnTo>
                    <a:pt x="42" y="179"/>
                  </a:lnTo>
                  <a:lnTo>
                    <a:pt x="42" y="181"/>
                  </a:lnTo>
                  <a:lnTo>
                    <a:pt x="62" y="258"/>
                  </a:lnTo>
                  <a:lnTo>
                    <a:pt x="64" y="261"/>
                  </a:lnTo>
                  <a:lnTo>
                    <a:pt x="126" y="359"/>
                  </a:lnTo>
                  <a:lnTo>
                    <a:pt x="142" y="346"/>
                  </a:lnTo>
                  <a:lnTo>
                    <a:pt x="79" y="248"/>
                  </a:lnTo>
                  <a:lnTo>
                    <a:pt x="71" y="255"/>
                  </a:lnTo>
                  <a:lnTo>
                    <a:pt x="81" y="253"/>
                  </a:lnTo>
                  <a:lnTo>
                    <a:pt x="60" y="176"/>
                  </a:lnTo>
                  <a:lnTo>
                    <a:pt x="50" y="178"/>
                  </a:lnTo>
                  <a:lnTo>
                    <a:pt x="60" y="176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27160" y="4538520"/>
              <a:ext cx="353880" cy="306360"/>
            </a:xfrm>
            <a:custGeom>
              <a:avLst/>
              <a:gdLst/>
              <a:ahLst/>
              <a:rect l="l" t="t" r="r" b="b"/>
              <a:pathLst>
                <a:path w="446" h="386">
                  <a:moveTo>
                    <a:pt x="14" y="0"/>
                  </a:moveTo>
                  <a:lnTo>
                    <a:pt x="0" y="15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188" y="211"/>
                  </a:lnTo>
                  <a:lnTo>
                    <a:pt x="188" y="211"/>
                  </a:lnTo>
                  <a:lnTo>
                    <a:pt x="311" y="309"/>
                  </a:lnTo>
                  <a:lnTo>
                    <a:pt x="311" y="309"/>
                  </a:lnTo>
                  <a:lnTo>
                    <a:pt x="435" y="386"/>
                  </a:lnTo>
                  <a:lnTo>
                    <a:pt x="446" y="369"/>
                  </a:lnTo>
                  <a:lnTo>
                    <a:pt x="321" y="293"/>
                  </a:lnTo>
                  <a:lnTo>
                    <a:pt x="316" y="301"/>
                  </a:lnTo>
                  <a:lnTo>
                    <a:pt x="323" y="293"/>
                  </a:lnTo>
                  <a:lnTo>
                    <a:pt x="200" y="195"/>
                  </a:lnTo>
                  <a:lnTo>
                    <a:pt x="193" y="203"/>
                  </a:lnTo>
                  <a:lnTo>
                    <a:pt x="200" y="196"/>
                  </a:lnTo>
                  <a:lnTo>
                    <a:pt x="97" y="98"/>
                  </a:lnTo>
                  <a:lnTo>
                    <a:pt x="90" y="105"/>
                  </a:lnTo>
                  <a:lnTo>
                    <a:pt x="97" y="9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73120" y="4832280"/>
              <a:ext cx="547920" cy="216000"/>
            </a:xfrm>
            <a:custGeom>
              <a:avLst/>
              <a:gdLst/>
              <a:ahLst/>
              <a:rect l="l" t="t" r="r" b="b"/>
              <a:pathLst>
                <a:path w="691" h="273">
                  <a:moveTo>
                    <a:pt x="11" y="0"/>
                  </a:moveTo>
                  <a:lnTo>
                    <a:pt x="0" y="17"/>
                  </a:lnTo>
                  <a:lnTo>
                    <a:pt x="145" y="95"/>
                  </a:lnTo>
                  <a:lnTo>
                    <a:pt x="147" y="97"/>
                  </a:lnTo>
                  <a:lnTo>
                    <a:pt x="332" y="156"/>
                  </a:lnTo>
                  <a:lnTo>
                    <a:pt x="684" y="273"/>
                  </a:lnTo>
                  <a:lnTo>
                    <a:pt x="691" y="255"/>
                  </a:lnTo>
                  <a:lnTo>
                    <a:pt x="339" y="138"/>
                  </a:lnTo>
                  <a:lnTo>
                    <a:pt x="154" y="79"/>
                  </a:lnTo>
                  <a:lnTo>
                    <a:pt x="150" y="87"/>
                  </a:lnTo>
                  <a:lnTo>
                    <a:pt x="156" y="7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16000" y="5033880"/>
              <a:ext cx="559080" cy="108000"/>
            </a:xfrm>
            <a:custGeom>
              <a:avLst/>
              <a:gdLst/>
              <a:ahLst/>
              <a:rect l="l" t="t" r="r" b="b"/>
              <a:pathLst>
                <a:path w="704" h="136">
                  <a:moveTo>
                    <a:pt x="5" y="0"/>
                  </a:moveTo>
                  <a:lnTo>
                    <a:pt x="0" y="18"/>
                  </a:lnTo>
                  <a:lnTo>
                    <a:pt x="350" y="97"/>
                  </a:lnTo>
                  <a:lnTo>
                    <a:pt x="352" y="97"/>
                  </a:lnTo>
                  <a:lnTo>
                    <a:pt x="702" y="136"/>
                  </a:lnTo>
                  <a:lnTo>
                    <a:pt x="704" y="116"/>
                  </a:lnTo>
                  <a:lnTo>
                    <a:pt x="353" y="77"/>
                  </a:lnTo>
                  <a:lnTo>
                    <a:pt x="352" y="87"/>
                  </a:lnTo>
                  <a:lnTo>
                    <a:pt x="355" y="7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5080" y="5126040"/>
              <a:ext cx="541080" cy="76320"/>
            </a:xfrm>
            <a:custGeom>
              <a:avLst/>
              <a:gdLst/>
              <a:ahLst/>
              <a:rect l="l" t="t" r="r" b="b"/>
              <a:pathLst>
                <a:path w="684" h="97">
                  <a:moveTo>
                    <a:pt x="2" y="0"/>
                  </a:moveTo>
                  <a:lnTo>
                    <a:pt x="0" y="20"/>
                  </a:lnTo>
                  <a:lnTo>
                    <a:pt x="682" y="97"/>
                  </a:lnTo>
                  <a:lnTo>
                    <a:pt x="684" y="7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16160" y="5187960"/>
              <a:ext cx="557280" cy="61920"/>
            </a:xfrm>
            <a:custGeom>
              <a:avLst/>
              <a:gdLst/>
              <a:ahLst/>
              <a:rect l="l" t="t" r="r" b="b"/>
              <a:pathLst>
                <a:path w="703" h="79">
                  <a:moveTo>
                    <a:pt x="2" y="0"/>
                  </a:moveTo>
                  <a:lnTo>
                    <a:pt x="0" y="20"/>
                  </a:lnTo>
                  <a:lnTo>
                    <a:pt x="351" y="59"/>
                  </a:lnTo>
                  <a:lnTo>
                    <a:pt x="701" y="79"/>
                  </a:lnTo>
                  <a:lnTo>
                    <a:pt x="703" y="59"/>
                  </a:lnTo>
                  <a:lnTo>
                    <a:pt x="352" y="3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72000" y="523404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20"/>
                  </a:lnTo>
                  <a:lnTo>
                    <a:pt x="682" y="78"/>
                  </a:lnTo>
                  <a:lnTo>
                    <a:pt x="684" y="5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0040" y="6141960"/>
              <a:ext cx="73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72920" y="61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5160" y="5691240"/>
              <a:ext cx="147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3080" y="5702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3880" y="522612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2880" y="5237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3880" y="477684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2880" y="4788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3880" y="43275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880" y="433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23880" y="3862440"/>
              <a:ext cx="219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2880" y="3871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23880" y="34113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2880" y="342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87400" y="6311880"/>
              <a:ext cx="74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7040" y="632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11200" y="6311880"/>
              <a:ext cx="146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0840" y="6323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1916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9184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7500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7428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0024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99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5752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5680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09896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0982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5624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55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58800" y="6451560"/>
              <a:ext cx="2552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87400" y="6219720"/>
              <a:ext cx="65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87400" y="57690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87400" y="53038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87400" y="48546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87400" y="44053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87400" y="39402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87400" y="34894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919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47636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0178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57508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1161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36720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4213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47703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72000" y="500220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19"/>
                  </a:lnTo>
                  <a:lnTo>
                    <a:pt x="682" y="78"/>
                  </a:lnTo>
                  <a:lnTo>
                    <a:pt x="684" y="5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72000" y="523404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20"/>
                  </a:lnTo>
                  <a:lnTo>
                    <a:pt x="682" y="78"/>
                  </a:lnTo>
                  <a:lnTo>
                    <a:pt x="684" y="5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0040" y="6141960"/>
              <a:ext cx="73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2920" y="61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160" y="5691240"/>
              <a:ext cx="147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3080" y="5702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3880" y="522612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2880" y="5237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3880" y="477684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2880" y="4788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3880" y="43275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2880" y="433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3880" y="3862440"/>
              <a:ext cx="219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2880" y="3871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3880" y="34113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2880" y="342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400" y="6311880"/>
              <a:ext cx="74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87040" y="632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411200" y="6311880"/>
              <a:ext cx="146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10840" y="6323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1916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184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7500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7428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0024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99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55752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5680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9896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82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5624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655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96920" y="6500880"/>
              <a:ext cx="173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pper Production ('000 tp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6200000">
              <a:off x="-550080" y="4888440"/>
              <a:ext cx="175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s (US c per 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98920" y="5392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29520" y="46972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1200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87400" y="62514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87400" y="5943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87400" y="56340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87400" y="53262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87400" y="5016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87400" y="47070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87400" y="43988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87400" y="40892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87400" y="378144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87400" y="347328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92088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146988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0192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5700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312120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36702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2210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477216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25640" y="3763800"/>
              <a:ext cx="126720" cy="540000"/>
            </a:xfrm>
            <a:custGeom>
              <a:avLst/>
              <a:gdLst/>
              <a:ahLst/>
              <a:rect l="l" t="t" r="r" b="b"/>
              <a:pathLst>
                <a:path w="160" h="679">
                  <a:moveTo>
                    <a:pt x="18" y="0"/>
                  </a:moveTo>
                  <a:lnTo>
                    <a:pt x="0" y="2"/>
                  </a:lnTo>
                  <a:lnTo>
                    <a:pt x="20" y="166"/>
                  </a:lnTo>
                  <a:lnTo>
                    <a:pt x="20" y="168"/>
                  </a:lnTo>
                  <a:lnTo>
                    <a:pt x="62" y="332"/>
                  </a:lnTo>
                  <a:lnTo>
                    <a:pt x="71" y="329"/>
                  </a:lnTo>
                  <a:lnTo>
                    <a:pt x="62" y="330"/>
                  </a:lnTo>
                  <a:lnTo>
                    <a:pt x="82" y="515"/>
                  </a:lnTo>
                  <a:lnTo>
                    <a:pt x="82" y="517"/>
                  </a:lnTo>
                  <a:lnTo>
                    <a:pt x="143" y="679"/>
                  </a:lnTo>
                  <a:lnTo>
                    <a:pt x="160" y="673"/>
                  </a:lnTo>
                  <a:lnTo>
                    <a:pt x="99" y="510"/>
                  </a:lnTo>
                  <a:lnTo>
                    <a:pt x="91" y="513"/>
                  </a:lnTo>
                  <a:lnTo>
                    <a:pt x="101" y="513"/>
                  </a:lnTo>
                  <a:lnTo>
                    <a:pt x="81" y="329"/>
                  </a:lnTo>
                  <a:lnTo>
                    <a:pt x="81" y="327"/>
                  </a:lnTo>
                  <a:lnTo>
                    <a:pt x="38" y="163"/>
                  </a:lnTo>
                  <a:lnTo>
                    <a:pt x="28" y="164"/>
                  </a:lnTo>
                  <a:lnTo>
                    <a:pt x="38" y="1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39760" y="4299120"/>
              <a:ext cx="336600" cy="545760"/>
            </a:xfrm>
            <a:custGeom>
              <a:avLst/>
              <a:gdLst/>
              <a:ahLst/>
              <a:rect l="l" t="t" r="r" b="b"/>
              <a:pathLst>
                <a:path w="424" h="687">
                  <a:moveTo>
                    <a:pt x="17" y="0"/>
                  </a:moveTo>
                  <a:lnTo>
                    <a:pt x="0" y="8"/>
                  </a:lnTo>
                  <a:lnTo>
                    <a:pt x="81" y="193"/>
                  </a:lnTo>
                  <a:lnTo>
                    <a:pt x="83" y="193"/>
                  </a:lnTo>
                  <a:lnTo>
                    <a:pt x="165" y="357"/>
                  </a:lnTo>
                  <a:lnTo>
                    <a:pt x="165" y="360"/>
                  </a:lnTo>
                  <a:lnTo>
                    <a:pt x="287" y="543"/>
                  </a:lnTo>
                  <a:lnTo>
                    <a:pt x="410" y="687"/>
                  </a:lnTo>
                  <a:lnTo>
                    <a:pt x="424" y="672"/>
                  </a:lnTo>
                  <a:lnTo>
                    <a:pt x="300" y="528"/>
                  </a:lnTo>
                  <a:lnTo>
                    <a:pt x="179" y="345"/>
                  </a:lnTo>
                  <a:lnTo>
                    <a:pt x="172" y="352"/>
                  </a:lnTo>
                  <a:lnTo>
                    <a:pt x="181" y="347"/>
                  </a:lnTo>
                  <a:lnTo>
                    <a:pt x="98" y="182"/>
                  </a:lnTo>
                  <a:lnTo>
                    <a:pt x="89" y="188"/>
                  </a:lnTo>
                  <a:lnTo>
                    <a:pt x="98" y="18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67000" y="4830840"/>
              <a:ext cx="556920" cy="323640"/>
            </a:xfrm>
            <a:custGeom>
              <a:avLst/>
              <a:gdLst/>
              <a:ahLst/>
              <a:rect l="l" t="t" r="r" b="b"/>
              <a:pathLst>
                <a:path w="702" h="409">
                  <a:moveTo>
                    <a:pt x="12" y="0"/>
                  </a:moveTo>
                  <a:lnTo>
                    <a:pt x="0" y="17"/>
                  </a:lnTo>
                  <a:lnTo>
                    <a:pt x="162" y="141"/>
                  </a:lnTo>
                  <a:lnTo>
                    <a:pt x="162" y="141"/>
                  </a:lnTo>
                  <a:lnTo>
                    <a:pt x="325" y="243"/>
                  </a:lnTo>
                  <a:lnTo>
                    <a:pt x="327" y="244"/>
                  </a:lnTo>
                  <a:lnTo>
                    <a:pt x="511" y="326"/>
                  </a:lnTo>
                  <a:lnTo>
                    <a:pt x="693" y="409"/>
                  </a:lnTo>
                  <a:lnTo>
                    <a:pt x="702" y="390"/>
                  </a:lnTo>
                  <a:lnTo>
                    <a:pt x="519" y="307"/>
                  </a:lnTo>
                  <a:lnTo>
                    <a:pt x="335" y="226"/>
                  </a:lnTo>
                  <a:lnTo>
                    <a:pt x="330" y="234"/>
                  </a:lnTo>
                  <a:lnTo>
                    <a:pt x="335" y="226"/>
                  </a:lnTo>
                  <a:lnTo>
                    <a:pt x="172" y="124"/>
                  </a:lnTo>
                  <a:lnTo>
                    <a:pt x="167" y="133"/>
                  </a:lnTo>
                  <a:lnTo>
                    <a:pt x="174" y="1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17800" y="5140440"/>
              <a:ext cx="555480" cy="160200"/>
            </a:xfrm>
            <a:custGeom>
              <a:avLst/>
              <a:gdLst/>
              <a:ahLst/>
              <a:rect l="l" t="t" r="r" b="b"/>
              <a:pathLst>
                <a:path w="700" h="202">
                  <a:moveTo>
                    <a:pt x="7" y="0"/>
                  </a:moveTo>
                  <a:lnTo>
                    <a:pt x="0" y="19"/>
                  </a:lnTo>
                  <a:lnTo>
                    <a:pt x="164" y="80"/>
                  </a:lnTo>
                  <a:lnTo>
                    <a:pt x="165" y="80"/>
                  </a:lnTo>
                  <a:lnTo>
                    <a:pt x="349" y="120"/>
                  </a:lnTo>
                  <a:lnTo>
                    <a:pt x="351" y="110"/>
                  </a:lnTo>
                  <a:lnTo>
                    <a:pt x="349" y="120"/>
                  </a:lnTo>
                  <a:lnTo>
                    <a:pt x="695" y="202"/>
                  </a:lnTo>
                  <a:lnTo>
                    <a:pt x="700" y="183"/>
                  </a:lnTo>
                  <a:lnTo>
                    <a:pt x="354" y="102"/>
                  </a:lnTo>
                  <a:lnTo>
                    <a:pt x="353" y="10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71" y="6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68600" y="5284800"/>
              <a:ext cx="554040" cy="96840"/>
            </a:xfrm>
            <a:custGeom>
              <a:avLst/>
              <a:gdLst/>
              <a:ahLst/>
              <a:rect l="l" t="t" r="r" b="b"/>
              <a:pathLst>
                <a:path w="697" h="124">
                  <a:moveTo>
                    <a:pt x="4" y="0"/>
                  </a:moveTo>
                  <a:lnTo>
                    <a:pt x="0" y="21"/>
                  </a:lnTo>
                  <a:lnTo>
                    <a:pt x="348" y="83"/>
                  </a:lnTo>
                  <a:lnTo>
                    <a:pt x="350" y="83"/>
                  </a:lnTo>
                  <a:lnTo>
                    <a:pt x="695" y="124"/>
                  </a:lnTo>
                  <a:lnTo>
                    <a:pt x="697" y="104"/>
                  </a:lnTo>
                  <a:lnTo>
                    <a:pt x="351" y="63"/>
                  </a:lnTo>
                  <a:lnTo>
                    <a:pt x="350" y="73"/>
                  </a:lnTo>
                  <a:lnTo>
                    <a:pt x="351" y="6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19400" y="5365800"/>
              <a:ext cx="552600" cy="96840"/>
            </a:xfrm>
            <a:custGeom>
              <a:avLst/>
              <a:gdLst/>
              <a:ahLst/>
              <a:rect l="l" t="t" r="r" b="b"/>
              <a:pathLst>
                <a:path w="696" h="122">
                  <a:moveTo>
                    <a:pt x="3" y="0"/>
                  </a:moveTo>
                  <a:lnTo>
                    <a:pt x="0" y="20"/>
                  </a:lnTo>
                  <a:lnTo>
                    <a:pt x="347" y="81"/>
                  </a:lnTo>
                  <a:lnTo>
                    <a:pt x="349" y="81"/>
                  </a:lnTo>
                  <a:lnTo>
                    <a:pt x="695" y="122"/>
                  </a:lnTo>
                  <a:lnTo>
                    <a:pt x="696" y="101"/>
                  </a:lnTo>
                  <a:lnTo>
                    <a:pt x="351" y="61"/>
                  </a:lnTo>
                  <a:lnTo>
                    <a:pt x="349" y="71"/>
                  </a:lnTo>
                  <a:lnTo>
                    <a:pt x="351" y="6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670200" y="5446800"/>
              <a:ext cx="552600" cy="66600"/>
            </a:xfrm>
            <a:custGeom>
              <a:avLst/>
              <a:gdLst/>
              <a:ahLst/>
              <a:rect l="l" t="t" r="r" b="b"/>
              <a:pathLst>
                <a:path w="695" h="83">
                  <a:moveTo>
                    <a:pt x="1" y="0"/>
                  </a:moveTo>
                  <a:lnTo>
                    <a:pt x="0" y="21"/>
                  </a:lnTo>
                  <a:lnTo>
                    <a:pt x="346" y="61"/>
                  </a:lnTo>
                  <a:lnTo>
                    <a:pt x="693" y="83"/>
                  </a:lnTo>
                  <a:lnTo>
                    <a:pt x="695" y="63"/>
                  </a:lnTo>
                  <a:lnTo>
                    <a:pt x="347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27080" y="4427640"/>
              <a:ext cx="125280" cy="156960"/>
            </a:xfrm>
            <a:custGeom>
              <a:avLst/>
              <a:gdLst/>
              <a:ahLst/>
              <a:rect l="l" t="t" r="r" b="b"/>
              <a:pathLst>
                <a:path w="157" h="198">
                  <a:moveTo>
                    <a:pt x="16" y="0"/>
                  </a:moveTo>
                  <a:lnTo>
                    <a:pt x="0" y="10"/>
                  </a:lnTo>
                  <a:lnTo>
                    <a:pt x="21" y="51"/>
                  </a:lnTo>
                  <a:lnTo>
                    <a:pt x="22" y="54"/>
                  </a:lnTo>
                  <a:lnTo>
                    <a:pt x="64" y="95"/>
                  </a:lnTo>
                  <a:lnTo>
                    <a:pt x="70" y="87"/>
                  </a:lnTo>
                  <a:lnTo>
                    <a:pt x="61" y="90"/>
                  </a:lnTo>
                  <a:lnTo>
                    <a:pt x="81" y="153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145" y="198"/>
                  </a:lnTo>
                  <a:lnTo>
                    <a:pt x="157" y="181"/>
                  </a:lnTo>
                  <a:lnTo>
                    <a:pt x="97" y="141"/>
                  </a:lnTo>
                  <a:lnTo>
                    <a:pt x="90" y="149"/>
                  </a:lnTo>
                  <a:lnTo>
                    <a:pt x="100" y="148"/>
                  </a:lnTo>
                  <a:lnTo>
                    <a:pt x="80" y="85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34" y="39"/>
                  </a:lnTo>
                  <a:lnTo>
                    <a:pt x="27" y="46"/>
                  </a:lnTo>
                  <a:lnTo>
                    <a:pt x="36" y="4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43000" y="4572000"/>
              <a:ext cx="330120" cy="193680"/>
            </a:xfrm>
            <a:custGeom>
              <a:avLst/>
              <a:gdLst/>
              <a:ahLst/>
              <a:rect l="l" t="t" r="r" b="b"/>
              <a:pathLst>
                <a:path w="417" h="244">
                  <a:moveTo>
                    <a:pt x="12" y="0"/>
                  </a:moveTo>
                  <a:lnTo>
                    <a:pt x="0" y="17"/>
                  </a:lnTo>
                  <a:lnTo>
                    <a:pt x="81" y="78"/>
                  </a:lnTo>
                  <a:lnTo>
                    <a:pt x="164" y="139"/>
                  </a:lnTo>
                  <a:lnTo>
                    <a:pt x="166" y="141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410" y="244"/>
                  </a:lnTo>
                  <a:lnTo>
                    <a:pt x="417" y="226"/>
                  </a:lnTo>
                  <a:lnTo>
                    <a:pt x="294" y="183"/>
                  </a:lnTo>
                  <a:lnTo>
                    <a:pt x="291" y="192"/>
                  </a:lnTo>
                  <a:lnTo>
                    <a:pt x="296" y="183"/>
                  </a:lnTo>
                  <a:lnTo>
                    <a:pt x="174" y="122"/>
                  </a:lnTo>
                  <a:lnTo>
                    <a:pt x="169" y="131"/>
                  </a:lnTo>
                  <a:lnTo>
                    <a:pt x="176" y="122"/>
                  </a:lnTo>
                  <a:lnTo>
                    <a:pt x="93" y="6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69880" y="4749840"/>
              <a:ext cx="551160" cy="112680"/>
            </a:xfrm>
            <a:custGeom>
              <a:avLst/>
              <a:gdLst/>
              <a:ahLst/>
              <a:rect l="l" t="t" r="r" b="b"/>
              <a:pathLst>
                <a:path w="695" h="140">
                  <a:moveTo>
                    <a:pt x="5" y="0"/>
                  </a:moveTo>
                  <a:lnTo>
                    <a:pt x="0" y="18"/>
                  </a:lnTo>
                  <a:lnTo>
                    <a:pt x="162" y="59"/>
                  </a:lnTo>
                  <a:lnTo>
                    <a:pt x="164" y="59"/>
                  </a:lnTo>
                  <a:lnTo>
                    <a:pt x="327" y="79"/>
                  </a:lnTo>
                  <a:lnTo>
                    <a:pt x="327" y="69"/>
                  </a:lnTo>
                  <a:lnTo>
                    <a:pt x="326" y="79"/>
                  </a:lnTo>
                  <a:lnTo>
                    <a:pt x="510" y="120"/>
                  </a:lnTo>
                  <a:lnTo>
                    <a:pt x="511" y="120"/>
                  </a:lnTo>
                  <a:lnTo>
                    <a:pt x="694" y="140"/>
                  </a:lnTo>
                  <a:lnTo>
                    <a:pt x="695" y="120"/>
                  </a:lnTo>
                  <a:lnTo>
                    <a:pt x="513" y="100"/>
                  </a:lnTo>
                  <a:lnTo>
                    <a:pt x="511" y="110"/>
                  </a:lnTo>
                  <a:lnTo>
                    <a:pt x="513" y="100"/>
                  </a:lnTo>
                  <a:lnTo>
                    <a:pt x="329" y="59"/>
                  </a:lnTo>
                  <a:lnTo>
                    <a:pt x="329" y="59"/>
                  </a:lnTo>
                  <a:lnTo>
                    <a:pt x="165" y="39"/>
                  </a:lnTo>
                  <a:lnTo>
                    <a:pt x="164" y="49"/>
                  </a:lnTo>
                  <a:lnTo>
                    <a:pt x="167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19240" y="4846680"/>
              <a:ext cx="552600" cy="63360"/>
            </a:xfrm>
            <a:custGeom>
              <a:avLst/>
              <a:gdLst/>
              <a:ahLst/>
              <a:rect l="l" t="t" r="r" b="b"/>
              <a:pathLst>
                <a:path w="695" h="81">
                  <a:moveTo>
                    <a:pt x="1" y="0"/>
                  </a:moveTo>
                  <a:lnTo>
                    <a:pt x="0" y="20"/>
                  </a:lnTo>
                  <a:lnTo>
                    <a:pt x="347" y="61"/>
                  </a:lnTo>
                  <a:lnTo>
                    <a:pt x="693" y="81"/>
                  </a:lnTo>
                  <a:lnTo>
                    <a:pt x="695" y="61"/>
                  </a:lnTo>
                  <a:lnTo>
                    <a:pt x="349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70040" y="4894200"/>
              <a:ext cx="552600" cy="49320"/>
            </a:xfrm>
            <a:custGeom>
              <a:avLst/>
              <a:gdLst/>
              <a:ahLst/>
              <a:rect l="l" t="t" r="r" b="b"/>
              <a:pathLst>
                <a:path w="695" h="63">
                  <a:moveTo>
                    <a:pt x="2" y="0"/>
                  </a:moveTo>
                  <a:lnTo>
                    <a:pt x="0" y="20"/>
                  </a:lnTo>
                  <a:lnTo>
                    <a:pt x="693" y="63"/>
                  </a:lnTo>
                  <a:lnTo>
                    <a:pt x="695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121200" y="4927680"/>
              <a:ext cx="550800" cy="48960"/>
            </a:xfrm>
            <a:custGeom>
              <a:avLst/>
              <a:gdLst/>
              <a:ahLst/>
              <a:rect l="l" t="t" r="r" b="b"/>
              <a:pathLst>
                <a:path w="695" h="61">
                  <a:moveTo>
                    <a:pt x="2" y="0"/>
                  </a:moveTo>
                  <a:lnTo>
                    <a:pt x="0" y="21"/>
                  </a:lnTo>
                  <a:lnTo>
                    <a:pt x="694" y="61"/>
                  </a:lnTo>
                  <a:lnTo>
                    <a:pt x="695" y="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70200" y="4960800"/>
              <a:ext cx="550800" cy="32040"/>
            </a:xfrm>
            <a:custGeom>
              <a:avLst/>
              <a:gdLst/>
              <a:ahLst/>
              <a:rect l="l" t="t" r="r" b="b"/>
              <a:pathLst>
                <a:path w="693" h="41">
                  <a:moveTo>
                    <a:pt x="0" y="0"/>
                  </a:moveTo>
                  <a:lnTo>
                    <a:pt x="0" y="20"/>
                  </a:lnTo>
                  <a:lnTo>
                    <a:pt x="693" y="41"/>
                  </a:lnTo>
                  <a:lnTo>
                    <a:pt x="69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1200" y="6170760"/>
              <a:ext cx="72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3720" y="6180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82640" y="5861160"/>
              <a:ext cx="712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3720" y="5872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1360" y="5553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13880" y="55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9560" y="5243400"/>
              <a:ext cx="1443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3880" y="52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1360" y="49356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3880" y="494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1360" y="46260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3880" y="4637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1360" y="4317840"/>
              <a:ext cx="14256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3880" y="4327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1360" y="40100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3880" y="401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1360" y="37004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3880" y="371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1360" y="33908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3880" y="34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87400" y="6348240"/>
              <a:ext cx="73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7040" y="635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405080" y="6348240"/>
              <a:ext cx="142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04720" y="635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24200" y="6348240"/>
              <a:ext cx="2124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23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7320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72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00816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07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5752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556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1068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1061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576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569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82560" y="6527880"/>
              <a:ext cx="2495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54080" y="6535800"/>
              <a:ext cx="173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pper Production ('00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t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-294480" y="4829760"/>
              <a:ext cx="151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s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91000" y="5208480"/>
              <a:ext cx="628560" cy="220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96400" y="5222880"/>
              <a:ext cx="4352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65360" y="4653000"/>
              <a:ext cx="792360" cy="21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70040" y="4665600"/>
              <a:ext cx="54936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d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87400" y="62514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400" y="5943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87400" y="56340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87400" y="53262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87400" y="5016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87400" y="47070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87400" y="43988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87400" y="40892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87400" y="378144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87400" y="347328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92088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146988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20192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25700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12120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6702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2210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77216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25640" y="3763800"/>
              <a:ext cx="126720" cy="540000"/>
            </a:xfrm>
            <a:custGeom>
              <a:avLst/>
              <a:gdLst/>
              <a:ahLst/>
              <a:rect l="l" t="t" r="r" b="b"/>
              <a:pathLst>
                <a:path w="160" h="679">
                  <a:moveTo>
                    <a:pt x="18" y="0"/>
                  </a:moveTo>
                  <a:lnTo>
                    <a:pt x="0" y="2"/>
                  </a:lnTo>
                  <a:lnTo>
                    <a:pt x="20" y="166"/>
                  </a:lnTo>
                  <a:lnTo>
                    <a:pt x="20" y="168"/>
                  </a:lnTo>
                  <a:lnTo>
                    <a:pt x="62" y="332"/>
                  </a:lnTo>
                  <a:lnTo>
                    <a:pt x="71" y="329"/>
                  </a:lnTo>
                  <a:lnTo>
                    <a:pt x="62" y="330"/>
                  </a:lnTo>
                  <a:lnTo>
                    <a:pt x="82" y="515"/>
                  </a:lnTo>
                  <a:lnTo>
                    <a:pt x="82" y="517"/>
                  </a:lnTo>
                  <a:lnTo>
                    <a:pt x="143" y="679"/>
                  </a:lnTo>
                  <a:lnTo>
                    <a:pt x="160" y="673"/>
                  </a:lnTo>
                  <a:lnTo>
                    <a:pt x="99" y="510"/>
                  </a:lnTo>
                  <a:lnTo>
                    <a:pt x="91" y="513"/>
                  </a:lnTo>
                  <a:lnTo>
                    <a:pt x="101" y="513"/>
                  </a:lnTo>
                  <a:lnTo>
                    <a:pt x="81" y="329"/>
                  </a:lnTo>
                  <a:lnTo>
                    <a:pt x="81" y="327"/>
                  </a:lnTo>
                  <a:lnTo>
                    <a:pt x="38" y="163"/>
                  </a:lnTo>
                  <a:lnTo>
                    <a:pt x="28" y="164"/>
                  </a:lnTo>
                  <a:lnTo>
                    <a:pt x="38" y="1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9760" y="4299120"/>
              <a:ext cx="336600" cy="545760"/>
            </a:xfrm>
            <a:custGeom>
              <a:avLst/>
              <a:gdLst/>
              <a:ahLst/>
              <a:rect l="l" t="t" r="r" b="b"/>
              <a:pathLst>
                <a:path w="424" h="687">
                  <a:moveTo>
                    <a:pt x="17" y="0"/>
                  </a:moveTo>
                  <a:lnTo>
                    <a:pt x="0" y="8"/>
                  </a:lnTo>
                  <a:lnTo>
                    <a:pt x="81" y="193"/>
                  </a:lnTo>
                  <a:lnTo>
                    <a:pt x="83" y="193"/>
                  </a:lnTo>
                  <a:lnTo>
                    <a:pt x="165" y="357"/>
                  </a:lnTo>
                  <a:lnTo>
                    <a:pt x="165" y="360"/>
                  </a:lnTo>
                  <a:lnTo>
                    <a:pt x="287" y="543"/>
                  </a:lnTo>
                  <a:lnTo>
                    <a:pt x="410" y="687"/>
                  </a:lnTo>
                  <a:lnTo>
                    <a:pt x="424" y="672"/>
                  </a:lnTo>
                  <a:lnTo>
                    <a:pt x="300" y="528"/>
                  </a:lnTo>
                  <a:lnTo>
                    <a:pt x="179" y="345"/>
                  </a:lnTo>
                  <a:lnTo>
                    <a:pt x="172" y="352"/>
                  </a:lnTo>
                  <a:lnTo>
                    <a:pt x="181" y="347"/>
                  </a:lnTo>
                  <a:lnTo>
                    <a:pt x="98" y="182"/>
                  </a:lnTo>
                  <a:lnTo>
                    <a:pt x="89" y="188"/>
                  </a:lnTo>
                  <a:lnTo>
                    <a:pt x="98" y="18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67000" y="4830840"/>
              <a:ext cx="556920" cy="323640"/>
            </a:xfrm>
            <a:custGeom>
              <a:avLst/>
              <a:gdLst/>
              <a:ahLst/>
              <a:rect l="l" t="t" r="r" b="b"/>
              <a:pathLst>
                <a:path w="702" h="409">
                  <a:moveTo>
                    <a:pt x="12" y="0"/>
                  </a:moveTo>
                  <a:lnTo>
                    <a:pt x="0" y="17"/>
                  </a:lnTo>
                  <a:lnTo>
                    <a:pt x="162" y="141"/>
                  </a:lnTo>
                  <a:lnTo>
                    <a:pt x="162" y="141"/>
                  </a:lnTo>
                  <a:lnTo>
                    <a:pt x="325" y="243"/>
                  </a:lnTo>
                  <a:lnTo>
                    <a:pt x="327" y="244"/>
                  </a:lnTo>
                  <a:lnTo>
                    <a:pt x="511" y="326"/>
                  </a:lnTo>
                  <a:lnTo>
                    <a:pt x="693" y="409"/>
                  </a:lnTo>
                  <a:lnTo>
                    <a:pt x="702" y="390"/>
                  </a:lnTo>
                  <a:lnTo>
                    <a:pt x="519" y="307"/>
                  </a:lnTo>
                  <a:lnTo>
                    <a:pt x="335" y="226"/>
                  </a:lnTo>
                  <a:lnTo>
                    <a:pt x="330" y="234"/>
                  </a:lnTo>
                  <a:lnTo>
                    <a:pt x="335" y="226"/>
                  </a:lnTo>
                  <a:lnTo>
                    <a:pt x="172" y="124"/>
                  </a:lnTo>
                  <a:lnTo>
                    <a:pt x="167" y="133"/>
                  </a:lnTo>
                  <a:lnTo>
                    <a:pt x="174" y="1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17800" y="5140440"/>
              <a:ext cx="555480" cy="160200"/>
            </a:xfrm>
            <a:custGeom>
              <a:avLst/>
              <a:gdLst/>
              <a:ahLst/>
              <a:rect l="l" t="t" r="r" b="b"/>
              <a:pathLst>
                <a:path w="700" h="202">
                  <a:moveTo>
                    <a:pt x="7" y="0"/>
                  </a:moveTo>
                  <a:lnTo>
                    <a:pt x="0" y="19"/>
                  </a:lnTo>
                  <a:lnTo>
                    <a:pt x="164" y="80"/>
                  </a:lnTo>
                  <a:lnTo>
                    <a:pt x="165" y="80"/>
                  </a:lnTo>
                  <a:lnTo>
                    <a:pt x="349" y="120"/>
                  </a:lnTo>
                  <a:lnTo>
                    <a:pt x="351" y="110"/>
                  </a:lnTo>
                  <a:lnTo>
                    <a:pt x="349" y="120"/>
                  </a:lnTo>
                  <a:lnTo>
                    <a:pt x="695" y="202"/>
                  </a:lnTo>
                  <a:lnTo>
                    <a:pt x="700" y="183"/>
                  </a:lnTo>
                  <a:lnTo>
                    <a:pt x="354" y="102"/>
                  </a:lnTo>
                  <a:lnTo>
                    <a:pt x="353" y="10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71" y="6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8600" y="5284800"/>
              <a:ext cx="554040" cy="96840"/>
            </a:xfrm>
            <a:custGeom>
              <a:avLst/>
              <a:gdLst/>
              <a:ahLst/>
              <a:rect l="l" t="t" r="r" b="b"/>
              <a:pathLst>
                <a:path w="697" h="124">
                  <a:moveTo>
                    <a:pt x="4" y="0"/>
                  </a:moveTo>
                  <a:lnTo>
                    <a:pt x="0" y="21"/>
                  </a:lnTo>
                  <a:lnTo>
                    <a:pt x="348" y="83"/>
                  </a:lnTo>
                  <a:lnTo>
                    <a:pt x="350" y="83"/>
                  </a:lnTo>
                  <a:lnTo>
                    <a:pt x="695" y="124"/>
                  </a:lnTo>
                  <a:lnTo>
                    <a:pt x="697" y="104"/>
                  </a:lnTo>
                  <a:lnTo>
                    <a:pt x="351" y="63"/>
                  </a:lnTo>
                  <a:lnTo>
                    <a:pt x="350" y="73"/>
                  </a:lnTo>
                  <a:lnTo>
                    <a:pt x="351" y="6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19400" y="5365800"/>
              <a:ext cx="552600" cy="96840"/>
            </a:xfrm>
            <a:custGeom>
              <a:avLst/>
              <a:gdLst/>
              <a:ahLst/>
              <a:rect l="l" t="t" r="r" b="b"/>
              <a:pathLst>
                <a:path w="696" h="122">
                  <a:moveTo>
                    <a:pt x="3" y="0"/>
                  </a:moveTo>
                  <a:lnTo>
                    <a:pt x="0" y="20"/>
                  </a:lnTo>
                  <a:lnTo>
                    <a:pt x="347" y="81"/>
                  </a:lnTo>
                  <a:lnTo>
                    <a:pt x="349" y="81"/>
                  </a:lnTo>
                  <a:lnTo>
                    <a:pt x="695" y="122"/>
                  </a:lnTo>
                  <a:lnTo>
                    <a:pt x="696" y="101"/>
                  </a:lnTo>
                  <a:lnTo>
                    <a:pt x="351" y="61"/>
                  </a:lnTo>
                  <a:lnTo>
                    <a:pt x="349" y="71"/>
                  </a:lnTo>
                  <a:lnTo>
                    <a:pt x="351" y="6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70200" y="5446800"/>
              <a:ext cx="552600" cy="66600"/>
            </a:xfrm>
            <a:custGeom>
              <a:avLst/>
              <a:gdLst/>
              <a:ahLst/>
              <a:rect l="l" t="t" r="r" b="b"/>
              <a:pathLst>
                <a:path w="695" h="83">
                  <a:moveTo>
                    <a:pt x="1" y="0"/>
                  </a:moveTo>
                  <a:lnTo>
                    <a:pt x="0" y="21"/>
                  </a:lnTo>
                  <a:lnTo>
                    <a:pt x="346" y="61"/>
                  </a:lnTo>
                  <a:lnTo>
                    <a:pt x="693" y="83"/>
                  </a:lnTo>
                  <a:lnTo>
                    <a:pt x="695" y="63"/>
                  </a:lnTo>
                  <a:lnTo>
                    <a:pt x="347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27080" y="4427640"/>
              <a:ext cx="125280" cy="156960"/>
            </a:xfrm>
            <a:custGeom>
              <a:avLst/>
              <a:gdLst/>
              <a:ahLst/>
              <a:rect l="l" t="t" r="r" b="b"/>
              <a:pathLst>
                <a:path w="157" h="198">
                  <a:moveTo>
                    <a:pt x="16" y="0"/>
                  </a:moveTo>
                  <a:lnTo>
                    <a:pt x="0" y="10"/>
                  </a:lnTo>
                  <a:lnTo>
                    <a:pt x="21" y="51"/>
                  </a:lnTo>
                  <a:lnTo>
                    <a:pt x="22" y="54"/>
                  </a:lnTo>
                  <a:lnTo>
                    <a:pt x="64" y="95"/>
                  </a:lnTo>
                  <a:lnTo>
                    <a:pt x="70" y="87"/>
                  </a:lnTo>
                  <a:lnTo>
                    <a:pt x="61" y="90"/>
                  </a:lnTo>
                  <a:lnTo>
                    <a:pt x="81" y="153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145" y="198"/>
                  </a:lnTo>
                  <a:lnTo>
                    <a:pt x="157" y="181"/>
                  </a:lnTo>
                  <a:lnTo>
                    <a:pt x="97" y="141"/>
                  </a:lnTo>
                  <a:lnTo>
                    <a:pt x="90" y="149"/>
                  </a:lnTo>
                  <a:lnTo>
                    <a:pt x="100" y="148"/>
                  </a:lnTo>
                  <a:lnTo>
                    <a:pt x="80" y="85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34" y="39"/>
                  </a:lnTo>
                  <a:lnTo>
                    <a:pt x="27" y="46"/>
                  </a:lnTo>
                  <a:lnTo>
                    <a:pt x="36" y="4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143000" y="4572000"/>
              <a:ext cx="330120" cy="193680"/>
            </a:xfrm>
            <a:custGeom>
              <a:avLst/>
              <a:gdLst/>
              <a:ahLst/>
              <a:rect l="l" t="t" r="r" b="b"/>
              <a:pathLst>
                <a:path w="417" h="244">
                  <a:moveTo>
                    <a:pt x="12" y="0"/>
                  </a:moveTo>
                  <a:lnTo>
                    <a:pt x="0" y="17"/>
                  </a:lnTo>
                  <a:lnTo>
                    <a:pt x="81" y="78"/>
                  </a:lnTo>
                  <a:lnTo>
                    <a:pt x="164" y="139"/>
                  </a:lnTo>
                  <a:lnTo>
                    <a:pt x="166" y="141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410" y="244"/>
                  </a:lnTo>
                  <a:lnTo>
                    <a:pt x="417" y="226"/>
                  </a:lnTo>
                  <a:lnTo>
                    <a:pt x="294" y="183"/>
                  </a:lnTo>
                  <a:lnTo>
                    <a:pt x="291" y="192"/>
                  </a:lnTo>
                  <a:lnTo>
                    <a:pt x="296" y="183"/>
                  </a:lnTo>
                  <a:lnTo>
                    <a:pt x="174" y="122"/>
                  </a:lnTo>
                  <a:lnTo>
                    <a:pt x="169" y="131"/>
                  </a:lnTo>
                  <a:lnTo>
                    <a:pt x="176" y="122"/>
                  </a:lnTo>
                  <a:lnTo>
                    <a:pt x="93" y="6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69880" y="4749840"/>
              <a:ext cx="551160" cy="112680"/>
            </a:xfrm>
            <a:custGeom>
              <a:avLst/>
              <a:gdLst/>
              <a:ahLst/>
              <a:rect l="l" t="t" r="r" b="b"/>
              <a:pathLst>
                <a:path w="695" h="140">
                  <a:moveTo>
                    <a:pt x="5" y="0"/>
                  </a:moveTo>
                  <a:lnTo>
                    <a:pt x="0" y="18"/>
                  </a:lnTo>
                  <a:lnTo>
                    <a:pt x="162" y="59"/>
                  </a:lnTo>
                  <a:lnTo>
                    <a:pt x="164" y="59"/>
                  </a:lnTo>
                  <a:lnTo>
                    <a:pt x="327" y="79"/>
                  </a:lnTo>
                  <a:lnTo>
                    <a:pt x="327" y="69"/>
                  </a:lnTo>
                  <a:lnTo>
                    <a:pt x="326" y="79"/>
                  </a:lnTo>
                  <a:lnTo>
                    <a:pt x="510" y="120"/>
                  </a:lnTo>
                  <a:lnTo>
                    <a:pt x="511" y="120"/>
                  </a:lnTo>
                  <a:lnTo>
                    <a:pt x="694" y="140"/>
                  </a:lnTo>
                  <a:lnTo>
                    <a:pt x="695" y="120"/>
                  </a:lnTo>
                  <a:lnTo>
                    <a:pt x="513" y="100"/>
                  </a:lnTo>
                  <a:lnTo>
                    <a:pt x="511" y="110"/>
                  </a:lnTo>
                  <a:lnTo>
                    <a:pt x="513" y="100"/>
                  </a:lnTo>
                  <a:lnTo>
                    <a:pt x="329" y="59"/>
                  </a:lnTo>
                  <a:lnTo>
                    <a:pt x="329" y="59"/>
                  </a:lnTo>
                  <a:lnTo>
                    <a:pt x="165" y="39"/>
                  </a:lnTo>
                  <a:lnTo>
                    <a:pt x="164" y="49"/>
                  </a:lnTo>
                  <a:lnTo>
                    <a:pt x="167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019240" y="4846680"/>
              <a:ext cx="552600" cy="63360"/>
            </a:xfrm>
            <a:custGeom>
              <a:avLst/>
              <a:gdLst/>
              <a:ahLst/>
              <a:rect l="l" t="t" r="r" b="b"/>
              <a:pathLst>
                <a:path w="695" h="81">
                  <a:moveTo>
                    <a:pt x="1" y="0"/>
                  </a:moveTo>
                  <a:lnTo>
                    <a:pt x="0" y="20"/>
                  </a:lnTo>
                  <a:lnTo>
                    <a:pt x="347" y="61"/>
                  </a:lnTo>
                  <a:lnTo>
                    <a:pt x="693" y="81"/>
                  </a:lnTo>
                  <a:lnTo>
                    <a:pt x="695" y="61"/>
                  </a:lnTo>
                  <a:lnTo>
                    <a:pt x="349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70040" y="4894200"/>
              <a:ext cx="552600" cy="49320"/>
            </a:xfrm>
            <a:custGeom>
              <a:avLst/>
              <a:gdLst/>
              <a:ahLst/>
              <a:rect l="l" t="t" r="r" b="b"/>
              <a:pathLst>
                <a:path w="695" h="63">
                  <a:moveTo>
                    <a:pt x="2" y="0"/>
                  </a:moveTo>
                  <a:lnTo>
                    <a:pt x="0" y="20"/>
                  </a:lnTo>
                  <a:lnTo>
                    <a:pt x="693" y="63"/>
                  </a:lnTo>
                  <a:lnTo>
                    <a:pt x="695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21200" y="4927680"/>
              <a:ext cx="550800" cy="48960"/>
            </a:xfrm>
            <a:custGeom>
              <a:avLst/>
              <a:gdLst/>
              <a:ahLst/>
              <a:rect l="l" t="t" r="r" b="b"/>
              <a:pathLst>
                <a:path w="695" h="61">
                  <a:moveTo>
                    <a:pt x="2" y="0"/>
                  </a:moveTo>
                  <a:lnTo>
                    <a:pt x="0" y="21"/>
                  </a:lnTo>
                  <a:lnTo>
                    <a:pt x="694" y="61"/>
                  </a:lnTo>
                  <a:lnTo>
                    <a:pt x="695" y="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670200" y="4960800"/>
              <a:ext cx="550800" cy="32040"/>
            </a:xfrm>
            <a:custGeom>
              <a:avLst/>
              <a:gdLst/>
              <a:ahLst/>
              <a:rect l="l" t="t" r="r" b="b"/>
              <a:pathLst>
                <a:path w="693" h="41">
                  <a:moveTo>
                    <a:pt x="0" y="0"/>
                  </a:moveTo>
                  <a:lnTo>
                    <a:pt x="0" y="20"/>
                  </a:lnTo>
                  <a:lnTo>
                    <a:pt x="693" y="41"/>
                  </a:lnTo>
                  <a:lnTo>
                    <a:pt x="69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1200" y="6170760"/>
              <a:ext cx="72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83720" y="6180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2640" y="5861160"/>
              <a:ext cx="712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83720" y="5872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11360" y="5553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3880" y="55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9560" y="5243400"/>
              <a:ext cx="1443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3880" y="52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1360" y="49356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3880" y="494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11360" y="46260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3880" y="4637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1360" y="4317840"/>
              <a:ext cx="14256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3880" y="4327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1360" y="40100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3880" y="401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1360" y="37004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3880" y="371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1360" y="33908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880" y="34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87400" y="6348240"/>
              <a:ext cx="73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87040" y="635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05080" y="6348240"/>
              <a:ext cx="142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04720" y="635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24200" y="6348240"/>
              <a:ext cx="2124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23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7320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72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00816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07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5752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556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068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061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576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569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82560" y="6527880"/>
              <a:ext cx="2495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18360" y="570060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92800" y="46926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-3240" y="3492360"/>
            <a:ext cx="4416480" cy="3086280"/>
            <a:chOff x="-3240" y="3492360"/>
            <a:chExt cx="4416480" cy="3086280"/>
          </a:xfrm>
        </p:grpSpPr>
        <p:sp>
          <p:nvSpPr>
            <p:cNvPr id="1352" name=""/>
            <p:cNvSpPr/>
            <p:nvPr/>
          </p:nvSpPr>
          <p:spPr>
            <a:xfrm>
              <a:off x="-3240" y="3492360"/>
              <a:ext cx="4416480" cy="308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41240" y="3740040"/>
              <a:ext cx="3291120" cy="208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1240" y="3740040"/>
              <a:ext cx="3291120" cy="208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00200" y="582444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0200" y="556416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0200" y="530208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00200" y="504180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0200" y="478152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0200" y="452124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0200" y="426096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0200" y="400068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0200" y="374004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41240" y="58240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687680" y="582408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619360" y="582408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3565440" y="58240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836640" y="4630680"/>
              <a:ext cx="954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932040" y="4343400"/>
              <a:ext cx="27432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06360" y="4164120"/>
              <a:ext cx="4813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687680" y="4082760"/>
              <a:ext cx="46512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2152800" y="4013280"/>
              <a:ext cx="46656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2619360" y="3973680"/>
              <a:ext cx="46692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3086280" y="3944880"/>
              <a:ext cx="47916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836640" y="5097240"/>
              <a:ext cx="9540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932040" y="4520880"/>
              <a:ext cx="27432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1206360" y="4164120"/>
              <a:ext cx="48132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1687680" y="4000680"/>
              <a:ext cx="465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152800" y="3890520"/>
              <a:ext cx="46656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2619360" y="3808080"/>
              <a:ext cx="4669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086280" y="3753000"/>
              <a:ext cx="47916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83400" y="5742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83400" y="5481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3400" y="5221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3400" y="4959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3400" y="4699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0400" y="44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0400" y="41781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2160" y="391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61600" y="365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12440" y="5934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60416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2360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968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274760" y="6167520"/>
              <a:ext cx="173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per Production ('000 t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6200000">
              <a:off x="-425520" y="4872600"/>
              <a:ext cx="122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 (US c per 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67040" y="40719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34000" y="486396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4006800" y="2108160"/>
            <a:ext cx="33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82720" y="2373480"/>
            <a:ext cx="9720" cy="1872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6" y="0"/>
                </a:ln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20800" y="351648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12" y="0"/>
                </a:moveTo>
                <a:lnTo>
                  <a:pt x="24" y="6"/>
                </a:lnTo>
                <a:lnTo>
                  <a:pt x="0" y="6"/>
                </a:lnTo>
                <a:lnTo>
                  <a:pt x="0" y="6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125800" y="483084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6"/>
                </a:moveTo>
                <a:lnTo>
                  <a:pt x="0" y="0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25800" y="4840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54160" y="484020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1332000" y="1243080"/>
            <a:ext cx="4564080" cy="4083120"/>
            <a:chOff x="1332000" y="1243080"/>
            <a:chExt cx="4564080" cy="4083120"/>
          </a:xfrm>
        </p:grpSpPr>
        <p:sp>
          <p:nvSpPr>
            <p:cNvPr id="1410" name=""/>
            <p:cNvSpPr/>
            <p:nvPr/>
          </p:nvSpPr>
          <p:spPr>
            <a:xfrm>
              <a:off x="1332000" y="1243080"/>
              <a:ext cx="4564080" cy="408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09680" y="1488960"/>
              <a:ext cx="3303720" cy="315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79440" y="4722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141360" y="4722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93560" y="472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83920" y="472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14720" y="4052880"/>
              <a:ext cx="82044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11480" y="3494160"/>
              <a:ext cx="167796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14720" y="2965320"/>
              <a:ext cx="250956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11480" y="2394000"/>
              <a:ext cx="3301920" cy="22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212920" y="1828800"/>
              <a:ext cx="3301920" cy="22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14600" y="1487520"/>
              <a:ext cx="2995560" cy="20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14880" y="1487520"/>
              <a:ext cx="2195280" cy="14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40360" y="1492200"/>
              <a:ext cx="1369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97520" y="1494000"/>
              <a:ext cx="5126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20680" y="454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020680" y="404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42920" y="3549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942920" y="3054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942920" y="255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942920" y="205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942920" y="1558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71880" y="493236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 (US c/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6200000">
              <a:off x="956520" y="3107520"/>
              <a:ext cx="14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66880" y="15112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167360" y="181620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839760" y="21146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566880" y="248112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249360" y="28526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59120" y="3181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474640" y="3479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7120" y="38386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43400" y="3274920"/>
              <a:ext cx="447840" cy="371520"/>
            </a:xfrm>
            <a:prstGeom prst="roundRect">
              <a:avLst>
                <a:gd name="adj" fmla="val 205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62200" y="2851200"/>
              <a:ext cx="447840" cy="37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90840" y="3657600"/>
              <a:ext cx="96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13120" y="2751120"/>
              <a:ext cx="113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4645080" cy="3432240"/>
            <a:chOff x="0" y="0"/>
            <a:chExt cx="4645080" cy="343224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464508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8600" y="338040"/>
              <a:ext cx="3763800" cy="2532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95360" y="1055520"/>
              <a:ext cx="3455640" cy="1815840"/>
              <a:chOff x="495360" y="1055520"/>
              <a:chExt cx="3455640" cy="1815840"/>
            </a:xfrm>
          </p:grpSpPr>
          <p:sp>
            <p:nvSpPr>
              <p:cNvPr id="96" name=""/>
              <p:cNvSpPr/>
              <p:nvPr/>
            </p:nvSpPr>
            <p:spPr>
              <a:xfrm>
                <a:off x="495360" y="2869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0920" y="2869920"/>
                <a:ext cx="6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581760" y="2850840"/>
                <a:ext cx="608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42600" y="2787120"/>
                <a:ext cx="6048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03080" y="2651040"/>
                <a:ext cx="60480" cy="13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3920" y="2442960"/>
                <a:ext cx="60840" cy="20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824760" y="2197800"/>
                <a:ext cx="60480" cy="24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85240" y="1944360"/>
                <a:ext cx="60840" cy="25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946440" y="1717200"/>
                <a:ext cx="6048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006920" y="1527120"/>
                <a:ext cx="69840" cy="18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076760" y="1380960"/>
                <a:ext cx="6048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1137240" y="128988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198440" y="1254960"/>
                <a:ext cx="6048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258920" y="124524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19760" y="1245240"/>
                <a:ext cx="6084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80600" y="1273680"/>
                <a:ext cx="60480" cy="5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1080" y="1327320"/>
                <a:ext cx="6084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01920" y="1399680"/>
                <a:ext cx="604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62760" y="1482120"/>
                <a:ext cx="604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23240" y="157284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84440" y="1663560"/>
                <a:ext cx="604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44920" y="1753920"/>
                <a:ext cx="6048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05400" y="184500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66600" y="1935720"/>
                <a:ext cx="6048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7080" y="2016360"/>
                <a:ext cx="6084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7920" y="2098440"/>
                <a:ext cx="6192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49840" y="2170800"/>
                <a:ext cx="608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111040" y="2234880"/>
                <a:ext cx="60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71520" y="2298600"/>
                <a:ext cx="60840" cy="5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32360" y="2352240"/>
                <a:ext cx="6804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00760" y="2407680"/>
                <a:ext cx="6048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1240" y="2453040"/>
                <a:ext cx="6084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22080" y="2498400"/>
                <a:ext cx="6048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534040"/>
                <a:ext cx="6084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43760" y="2570760"/>
                <a:ext cx="6192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05680" y="2597760"/>
                <a:ext cx="608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66880" y="2624760"/>
                <a:ext cx="6048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27360" y="2651400"/>
                <a:ext cx="608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88200" y="2670120"/>
                <a:ext cx="6048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49040" y="2696760"/>
                <a:ext cx="60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09520" y="2715480"/>
                <a:ext cx="608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70360" y="2725200"/>
                <a:ext cx="6048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31200" y="274212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1680" y="2752200"/>
                <a:ext cx="608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277056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13360" y="2778840"/>
                <a:ext cx="608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74200" y="278748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34680" y="279756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95520" y="2805840"/>
                <a:ext cx="60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6360" y="2805840"/>
                <a:ext cx="698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6200" y="281592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7040" y="282420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47520" y="2824200"/>
                <a:ext cx="608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08360" y="283248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69200" y="2832480"/>
                <a:ext cx="6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040" y="283248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0520" y="2842920"/>
                <a:ext cx="6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1055520"/>
                <a:ext cx="0" cy="18144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593720" y="1347840"/>
              <a:ext cx="952560" cy="162000"/>
            </a:xfrm>
            <a:prstGeom prst="rightArrow">
              <a:avLst>
                <a:gd name="adj1" fmla="val 50000"/>
                <a:gd name="adj2" fmla="val 8727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760" y="1028880"/>
              <a:ext cx="90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d n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1120" y="104292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d n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657360" y="1334880"/>
              <a:ext cx="590400" cy="160200"/>
            </a:xfrm>
            <a:prstGeom prst="rightArrow">
              <a:avLst>
                <a:gd name="adj1" fmla="val 50000"/>
                <a:gd name="adj2" fmla="val 5470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3200" y="24829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[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8880" y="3021120"/>
              <a:ext cx="101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-511560" y="1443240"/>
              <a:ext cx="157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ility dens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4627440" y="3484440"/>
            <a:ext cx="4445280" cy="3300480"/>
            <a:chOff x="4627440" y="3484440"/>
            <a:chExt cx="4445280" cy="3300480"/>
          </a:xfrm>
        </p:grpSpPr>
        <p:sp>
          <p:nvSpPr>
            <p:cNvPr id="1447" name=""/>
            <p:cNvSpPr/>
            <p:nvPr/>
          </p:nvSpPr>
          <p:spPr>
            <a:xfrm>
              <a:off x="4627440" y="3484440"/>
              <a:ext cx="4445280" cy="330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42040" y="3722760"/>
              <a:ext cx="3516120" cy="2347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05320" y="6070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05320" y="52833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05320" y="4508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05320" y="37227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34204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592596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651024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10568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68996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827388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885816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42040" y="6070680"/>
              <a:ext cx="29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40480" y="6070680"/>
              <a:ext cx="28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25960" y="6070680"/>
              <a:ext cx="29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4760" y="607068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605640" y="5795640"/>
              <a:ext cx="20160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807240" y="5402160"/>
              <a:ext cx="2984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7105680" y="5009760"/>
              <a:ext cx="28584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391520" y="4627080"/>
              <a:ext cx="29844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689960" y="4235040"/>
              <a:ext cx="2854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975440" y="3841560"/>
              <a:ext cx="2984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8273880" y="3722400"/>
              <a:ext cx="860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5342040" y="6046920"/>
              <a:ext cx="298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640480" y="5962680"/>
              <a:ext cx="2854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5925960" y="5843160"/>
              <a:ext cx="2988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6224760" y="5618160"/>
              <a:ext cx="380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605640" y="5473440"/>
              <a:ext cx="2016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6807240" y="5223960"/>
              <a:ext cx="29844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7105680" y="4938480"/>
              <a:ext cx="28584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7391520" y="4603320"/>
              <a:ext cx="29844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7689960" y="4235040"/>
              <a:ext cx="2854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7975440" y="3817800"/>
              <a:ext cx="298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273880" y="3722760"/>
              <a:ext cx="5904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7958160" y="3927600"/>
              <a:ext cx="0" cy="21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175000" y="598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31720" y="5200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31720" y="4425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31720" y="3638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304960" y="617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5432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3860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03368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1796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20224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78652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12200" y="6427800"/>
              <a:ext cx="73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C/RC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6200000">
              <a:off x="4698720" y="48301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27440" y="3484440"/>
              <a:ext cx="4445280" cy="3300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58160" y="555624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Price, 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00840" y="5562720"/>
              <a:ext cx="1057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  NPV = V(P)-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29240" y="5243400"/>
              <a:ext cx="13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  F(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"/>
          <p:cNvGrpSpPr/>
          <p:nvPr/>
        </p:nvGrpSpPr>
        <p:grpSpPr>
          <a:xfrm>
            <a:off x="58680" y="3483000"/>
            <a:ext cx="4437000" cy="3240000"/>
            <a:chOff x="58680" y="3483000"/>
            <a:chExt cx="4437000" cy="3240000"/>
          </a:xfrm>
        </p:grpSpPr>
        <p:sp>
          <p:nvSpPr>
            <p:cNvPr id="1501" name=""/>
            <p:cNvSpPr/>
            <p:nvPr/>
          </p:nvSpPr>
          <p:spPr>
            <a:xfrm>
              <a:off x="58680" y="3483000"/>
              <a:ext cx="443700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8040" y="3720960"/>
              <a:ext cx="2977920" cy="2289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3120" y="6010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3120" y="5678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3120" y="5357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3120" y="5025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3120" y="4705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43120" y="4373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3120" y="4052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3120" y="3720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87804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137628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187488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236052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285912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335772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385596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27160" y="4065480"/>
              <a:ext cx="249120" cy="9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376280" y="5013360"/>
              <a:ext cx="24948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625760" y="5334120"/>
              <a:ext cx="24912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74880" y="5487840"/>
              <a:ext cx="2491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24000" y="5583240"/>
              <a:ext cx="23652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60520" y="5643720"/>
              <a:ext cx="2494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10000" y="5689440"/>
              <a:ext cx="2491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59120" y="5726160"/>
              <a:ext cx="249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08240" y="5749920"/>
              <a:ext cx="2494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19600" y="601020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819600" y="572616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19600" y="544032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819600" y="515628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19600" y="487188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19600" y="457524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19600" y="429084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819600" y="400536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819600" y="372096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1127160" y="5156280"/>
              <a:ext cx="249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376280" y="5002200"/>
              <a:ext cx="24948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1625760" y="485892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874880" y="4718160"/>
              <a:ext cx="2491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24000" y="4586400"/>
              <a:ext cx="2365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2360520" y="4444560"/>
              <a:ext cx="2494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610000" y="430164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2859120" y="415872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108240" y="4017960"/>
              <a:ext cx="2494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21640" y="5927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11000" y="5595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9160" y="527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1160" y="4943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61160" y="4622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1160" y="42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1160" y="397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1160" y="3638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8228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28088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912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6512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76336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226680" y="6116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23480" y="6116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55000" y="6365880"/>
              <a:ext cx="112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venience Y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6200000">
              <a:off x="-168480" y="478188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US c/lb 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949200" y="592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49200" y="5643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49200" y="535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49200" y="507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949200" y="4788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949200" y="4492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949200" y="4206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49200" y="392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49200" y="363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3911400" y="47840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*, US c/l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680" y="3483000"/>
              <a:ext cx="4437000" cy="3240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48080" y="5281560"/>
              <a:ext cx="1118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  NPV = V(P)-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41600" y="447840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Price, 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76160" y="1044720"/>
            <a:ext cx="4567320" cy="3425760"/>
            <a:chOff x="776160" y="1044720"/>
            <a:chExt cx="4567320" cy="3425760"/>
          </a:xfrm>
        </p:grpSpPr>
        <p:sp>
          <p:nvSpPr>
            <p:cNvPr id="162" name=""/>
            <p:cNvSpPr/>
            <p:nvPr/>
          </p:nvSpPr>
          <p:spPr>
            <a:xfrm>
              <a:off x="776160" y="1044720"/>
              <a:ext cx="456732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55920" y="152856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5920" y="204624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5240" y="203976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2048040"/>
              <a:ext cx="54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101680" y="1555920"/>
              <a:ext cx="49068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166760" y="19382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70080" y="2602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530520" y="152856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0520" y="204624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40200" y="2116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30520" y="20480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6640" y="2046240"/>
              <a:ext cx="49068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3141720" y="19382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4680" y="2602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560600" y="284472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60600" y="33624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9920" y="337500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3480" y="33638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1692000" y="2890800"/>
              <a:ext cx="414360" cy="4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1171440" y="32540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74760" y="39178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530520" y="284472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0520" y="336240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0200" y="343224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87800" y="33638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642840" y="3357720"/>
              <a:ext cx="4431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3141720" y="32540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4680" y="39178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41680" y="193500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41680" y="325584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08360" y="194472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03680" y="325296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5440" y="3487680"/>
            <a:ext cx="4451400" cy="3179880"/>
            <a:chOff x="55440" y="3487680"/>
            <a:chExt cx="4451400" cy="3179880"/>
          </a:xfrm>
        </p:grpSpPr>
        <p:sp>
          <p:nvSpPr>
            <p:cNvPr id="196" name=""/>
            <p:cNvSpPr/>
            <p:nvPr/>
          </p:nvSpPr>
          <p:spPr>
            <a:xfrm>
              <a:off x="55440" y="3487680"/>
              <a:ext cx="4451400" cy="3179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280" y="3713040"/>
              <a:ext cx="3605040" cy="2278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566720" y="5933880"/>
              <a:ext cx="1796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746360" y="5854320"/>
              <a:ext cx="18072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927080" y="5719320"/>
              <a:ext cx="1796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106720" y="5540400"/>
              <a:ext cx="1807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87440" y="5325840"/>
              <a:ext cx="18108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468520" y="5100120"/>
              <a:ext cx="1792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47800" y="4863600"/>
              <a:ext cx="18108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828880" y="4614840"/>
              <a:ext cx="1792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008160" y="4367160"/>
              <a:ext cx="1810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189240" y="411948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368520" y="3871800"/>
              <a:ext cx="1810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106720" y="5742000"/>
              <a:ext cx="18072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287440" y="548280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468520" y="523548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47800" y="497628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828880" y="4727520"/>
              <a:ext cx="1792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008160" y="446832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189240" y="422100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368520" y="3962520"/>
              <a:ext cx="18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19320" y="632952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34640" y="477612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440" y="3487680"/>
              <a:ext cx="4451400" cy="3179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9600" y="5229360"/>
              <a:ext cx="97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off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9440" y="4172040"/>
              <a:ext cx="96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ce of O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684520" y="5351040"/>
              <a:ext cx="61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76360" y="4371840"/>
              <a:ext cx="7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92240" y="6021360"/>
              <a:ext cx="27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633920" y="3490920"/>
            <a:ext cx="4440240" cy="3241800"/>
            <a:chOff x="4633920" y="3490920"/>
            <a:chExt cx="4440240" cy="3241800"/>
          </a:xfrm>
        </p:grpSpPr>
        <p:sp>
          <p:nvSpPr>
            <p:cNvPr id="226" name=""/>
            <p:cNvSpPr/>
            <p:nvPr/>
          </p:nvSpPr>
          <p:spPr>
            <a:xfrm>
              <a:off x="4633920" y="3490920"/>
              <a:ext cx="4440240" cy="32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0720" y="3733920"/>
              <a:ext cx="3452760" cy="2255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00720" y="3733920"/>
              <a:ext cx="3452760" cy="22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54640" y="598968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54640" y="543096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4640" y="48625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54640" y="430380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4640" y="37339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40072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896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3882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7708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7712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86456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646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85348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46800" y="5976720"/>
              <a:ext cx="198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645160" y="5954760"/>
              <a:ext cx="244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889600" y="5895720"/>
              <a:ext cx="2556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45200" y="5814720"/>
              <a:ext cx="243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388200" y="5769000"/>
              <a:ext cx="936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1800" y="5699160"/>
              <a:ext cx="150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632640" y="5535720"/>
              <a:ext cx="244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77080" y="5349960"/>
              <a:ext cx="2556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132680" y="5118120"/>
              <a:ext cx="2444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377120" y="4838760"/>
              <a:ext cx="244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621560" y="4524120"/>
              <a:ext cx="2430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864560" y="4163760"/>
              <a:ext cx="2444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109000" y="3768840"/>
              <a:ext cx="25560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364600" y="3733560"/>
              <a:ext cx="172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37360" y="5548320"/>
              <a:ext cx="23976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377120" y="5105520"/>
              <a:ext cx="24444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621560" y="4664160"/>
              <a:ext cx="24300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864560" y="4211280"/>
              <a:ext cx="2444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109000" y="3768840"/>
              <a:ext cx="25560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64600" y="373356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2000" y="589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21000" y="5338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9640" y="4768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39640" y="4211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9640" y="3641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5440" y="611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680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0684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572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9576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8320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8324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7212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1120" y="6372360"/>
              <a:ext cx="137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ent Value of As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698720" y="47840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33920" y="3490920"/>
              <a:ext cx="4440240" cy="324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431120" y="5707080"/>
              <a:ext cx="4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97960" y="556884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 = V(P) -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10360" y="4583160"/>
              <a:ext cx="1800" cy="12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15200" y="4287960"/>
              <a:ext cx="13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ke price =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75240" y="543564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48240" y="528480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54800" y="51991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423200" y="5383080"/>
              <a:ext cx="4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0040" y="517356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706400" y="2154240"/>
            <a:ext cx="4567320" cy="3425760"/>
            <a:chOff x="1706400" y="2154240"/>
            <a:chExt cx="4567320" cy="3425760"/>
          </a:xfrm>
        </p:grpSpPr>
        <p:sp>
          <p:nvSpPr>
            <p:cNvPr id="288" name=""/>
            <p:cNvSpPr/>
            <p:nvPr/>
          </p:nvSpPr>
          <p:spPr>
            <a:xfrm>
              <a:off x="1706400" y="2154240"/>
              <a:ext cx="456732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360600" y="2746080"/>
              <a:ext cx="1252800" cy="90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60600" y="3651120"/>
              <a:ext cx="1252800" cy="9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35160" y="3444840"/>
              <a:ext cx="5922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30680" y="2517840"/>
              <a:ext cx="1417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u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30680" y="4371840"/>
              <a:ext cx="160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max(Sd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8000" y="4940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489420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9240" y="489420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38560" y="4995720"/>
              <a:ext cx="21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14760" y="4995720"/>
              <a:ext cx="2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98400" y="846000"/>
            <a:ext cx="6891480" cy="5629320"/>
            <a:chOff x="698400" y="846000"/>
            <a:chExt cx="6891480" cy="5629320"/>
          </a:xfrm>
        </p:grpSpPr>
        <p:sp>
          <p:nvSpPr>
            <p:cNvPr id="300" name=""/>
            <p:cNvSpPr/>
            <p:nvPr/>
          </p:nvSpPr>
          <p:spPr>
            <a:xfrm>
              <a:off x="698400" y="846000"/>
              <a:ext cx="6891480" cy="562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35080" y="32878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5080" y="35463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200">
              <a:off x="2306160" y="27637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3120" y="3425760"/>
              <a:ext cx="5261040" cy="213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68600" y="3000240"/>
              <a:ext cx="4164120" cy="17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35280" y="2575080"/>
              <a:ext cx="30974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95840" y="2149560"/>
              <a:ext cx="203688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479600" y="1333440"/>
              <a:ext cx="5253120" cy="20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548080" y="2181240"/>
              <a:ext cx="4187520" cy="16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645000" y="3018960"/>
              <a:ext cx="310356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18160" y="3863520"/>
              <a:ext cx="2014560" cy="8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769000" y="4749480"/>
              <a:ext cx="9637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53160" y="1724040"/>
              <a:ext cx="979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200">
              <a:off x="3390480" y="2319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2160" y="31510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200">
              <a:off x="3390480" y="3995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200">
              <a:off x="4525560" y="27511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00">
              <a:off x="4476240" y="1887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200">
              <a:off x="5495400" y="14684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200">
              <a:off x="6471720" y="1023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200">
              <a:off x="4525560" y="357660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200">
              <a:off x="4476240" y="4471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200">
              <a:off x="5495400" y="2328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080" y="316080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200">
              <a:off x="5495400" y="40053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200">
              <a:off x="5495400" y="4903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200">
              <a:off x="6543360" y="274176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200">
              <a:off x="6494040" y="18781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200">
              <a:off x="6543360" y="356724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00">
              <a:off x="6494040" y="4462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200">
              <a:off x="6494040" y="52927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63760" y="5792760"/>
              <a:ext cx="526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4304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616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61000" y="5896080"/>
              <a:ext cx="3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147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81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8340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72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6988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019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068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673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580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698400" y="846000"/>
            <a:ext cx="7793280" cy="5629320"/>
            <a:chOff x="698400" y="846000"/>
            <a:chExt cx="7793280" cy="5629320"/>
          </a:xfrm>
        </p:grpSpPr>
        <p:sp>
          <p:nvSpPr>
            <p:cNvPr id="346" name=""/>
            <p:cNvSpPr/>
            <p:nvPr/>
          </p:nvSpPr>
          <p:spPr>
            <a:xfrm>
              <a:off x="698400" y="846000"/>
              <a:ext cx="7793280" cy="562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35080" y="32878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5080" y="35463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200">
              <a:off x="2306160" y="27637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73120" y="3425760"/>
              <a:ext cx="5261040" cy="213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8600" y="3000240"/>
              <a:ext cx="4164120" cy="17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5280" y="2575080"/>
              <a:ext cx="30974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95840" y="2149560"/>
              <a:ext cx="203688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479600" y="1333440"/>
              <a:ext cx="5253120" cy="20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548080" y="2181240"/>
              <a:ext cx="4187520" cy="16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645000" y="3018960"/>
              <a:ext cx="310356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718160" y="3863520"/>
              <a:ext cx="2014560" cy="8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769000" y="4749480"/>
              <a:ext cx="9637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3160" y="1724040"/>
              <a:ext cx="979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200">
              <a:off x="3390480" y="2319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32160" y="31510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200">
              <a:off x="3390480" y="3995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200">
              <a:off x="4525560" y="27511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200">
              <a:off x="4476240" y="1887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200">
              <a:off x="5495400" y="14684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200">
              <a:off x="6471720" y="1023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200">
              <a:off x="4525560" y="357660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200">
              <a:off x="4476240" y="4471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200">
              <a:off x="5495400" y="2328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37080" y="316080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200">
              <a:off x="5495400" y="40053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200">
              <a:off x="5495400" y="4903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200">
              <a:off x="6543360" y="274176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00">
              <a:off x="6494040" y="18781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200">
              <a:off x="6543360" y="356724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200">
              <a:off x="6494040" y="4462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200">
              <a:off x="6494040" y="52927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63760" y="5792760"/>
              <a:ext cx="526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4304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1616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61000" y="5896080"/>
              <a:ext cx="3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147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181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340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3272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6988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19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068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73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580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04440" y="119052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04440" y="203688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00480" y="2882880"/>
              <a:ext cx="1235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00480" y="3728880"/>
              <a:ext cx="1235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04440" y="457524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04440" y="542304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94280" y="156996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8920" y="24462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54680" y="20098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58680" y="58680"/>
            <a:ext cx="4443480" cy="3230640"/>
            <a:chOff x="58680" y="58680"/>
            <a:chExt cx="4443480" cy="3230640"/>
          </a:xfrm>
        </p:grpSpPr>
        <p:sp>
          <p:nvSpPr>
            <p:cNvPr id="401" name=""/>
            <p:cNvSpPr/>
            <p:nvPr/>
          </p:nvSpPr>
          <p:spPr>
            <a:xfrm>
              <a:off x="58680" y="58680"/>
              <a:ext cx="4443480" cy="323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960" y="291960"/>
              <a:ext cx="3568680" cy="2297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7240" y="25891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7240" y="2355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240" y="21351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7240" y="1901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7240" y="16686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7240" y="14349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7240" y="1212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7240" y="9795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240" y="746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7240" y="5256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240" y="2919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2396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31760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91304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08120" y="2588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10212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697200" y="2588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29264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960" y="291960"/>
              <a:ext cx="593640" cy="1084320"/>
            </a:xfrm>
            <a:custGeom>
              <a:avLst/>
              <a:gdLst/>
              <a:ahLst/>
              <a:rect l="l" t="t" r="r" b="b"/>
              <a:pathLst>
                <a:path w="374" h="683">
                  <a:moveTo>
                    <a:pt x="0" y="0"/>
                  </a:moveTo>
                  <a:lnTo>
                    <a:pt x="95" y="176"/>
                  </a:lnTo>
                  <a:lnTo>
                    <a:pt x="183" y="360"/>
                  </a:lnTo>
                  <a:lnTo>
                    <a:pt x="279" y="529"/>
                  </a:lnTo>
                  <a:lnTo>
                    <a:pt x="330" y="610"/>
                  </a:lnTo>
                  <a:lnTo>
                    <a:pt x="374" y="68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17600" y="1376280"/>
              <a:ext cx="595440" cy="676440"/>
            </a:xfrm>
            <a:custGeom>
              <a:avLst/>
              <a:gdLst/>
              <a:ahLst/>
              <a:rect l="l" t="t" r="r" b="b"/>
              <a:pathLst>
                <a:path w="375" h="426">
                  <a:moveTo>
                    <a:pt x="0" y="0"/>
                  </a:moveTo>
                  <a:lnTo>
                    <a:pt x="96" y="132"/>
                  </a:lnTo>
                  <a:lnTo>
                    <a:pt x="184" y="243"/>
                  </a:lnTo>
                  <a:lnTo>
                    <a:pt x="279" y="345"/>
                  </a:lnTo>
                  <a:lnTo>
                    <a:pt x="375" y="42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3040" y="2052720"/>
              <a:ext cx="595080" cy="315720"/>
            </a:xfrm>
            <a:custGeom>
              <a:avLst/>
              <a:gdLst/>
              <a:ahLst/>
              <a:rect l="l" t="t" r="r" b="b"/>
              <a:pathLst>
                <a:path w="375" h="199">
                  <a:moveTo>
                    <a:pt x="0" y="0"/>
                  </a:moveTo>
                  <a:lnTo>
                    <a:pt x="95" y="66"/>
                  </a:lnTo>
                  <a:lnTo>
                    <a:pt x="184" y="118"/>
                  </a:lnTo>
                  <a:lnTo>
                    <a:pt x="279" y="162"/>
                  </a:lnTo>
                  <a:lnTo>
                    <a:pt x="375" y="19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08120" y="2368440"/>
              <a:ext cx="594000" cy="139680"/>
            </a:xfrm>
            <a:custGeom>
              <a:avLst/>
              <a:gdLst/>
              <a:ahLst/>
              <a:rect l="l" t="t" r="r" b="b"/>
              <a:pathLst>
                <a:path w="374" h="88">
                  <a:moveTo>
                    <a:pt x="0" y="0"/>
                  </a:moveTo>
                  <a:lnTo>
                    <a:pt x="95" y="29"/>
                  </a:lnTo>
                  <a:lnTo>
                    <a:pt x="183" y="51"/>
                  </a:lnTo>
                  <a:lnTo>
                    <a:pt x="374" y="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2120" y="2508120"/>
              <a:ext cx="595080" cy="59040"/>
            </a:xfrm>
            <a:custGeom>
              <a:avLst/>
              <a:gdLst/>
              <a:ahLst/>
              <a:rect l="l" t="t" r="r" b="b"/>
              <a:pathLst>
                <a:path w="375" h="37">
                  <a:moveTo>
                    <a:pt x="0" y="0"/>
                  </a:moveTo>
                  <a:lnTo>
                    <a:pt x="184" y="22"/>
                  </a:lnTo>
                  <a:lnTo>
                    <a:pt x="375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97200" y="2567160"/>
              <a:ext cx="595440" cy="10800"/>
            </a:xfrm>
            <a:custGeom>
              <a:avLst/>
              <a:gdLst/>
              <a:ahLst/>
              <a:rect l="l" t="t" r="r" b="b"/>
              <a:pathLst>
                <a:path w="375" h="7">
                  <a:moveTo>
                    <a:pt x="0" y="0"/>
                  </a:moveTo>
                  <a:lnTo>
                    <a:pt x="184" y="7"/>
                  </a:lnTo>
                  <a:lnTo>
                    <a:pt x="375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3960" y="2919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960" y="291960"/>
              <a:ext cx="593640" cy="11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17600" y="1446120"/>
              <a:ext cx="595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3040" y="2589120"/>
              <a:ext cx="59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8120" y="2589120"/>
              <a:ext cx="59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2120" y="2589120"/>
              <a:ext cx="59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97200" y="2589120"/>
              <a:ext cx="59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92640" y="258912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160" y="250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5040" y="2274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040" y="2052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5040" y="181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040" y="158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" y="135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5040" y="1131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5040" y="898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040" y="665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040" y="442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160" y="20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688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232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776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284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192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700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2244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0400" y="2940120"/>
              <a:ext cx="141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derlying Asse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126720" y="13708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680" y="58680"/>
              <a:ext cx="4443480" cy="3230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3040" y="21859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09640" y="1395360"/>
              <a:ext cx="13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ke price =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06720" y="200988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925640" y="1652760"/>
              <a:ext cx="68400" cy="87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7:41:10Z</dcterms:created>
  <dc:creator>Frank Crundwell</dc:creator>
  <dc:description/>
  <dc:language>en-US</dc:language>
  <cp:lastModifiedBy>frank crundwell</cp:lastModifiedBy>
  <dcterms:modified xsi:type="dcterms:W3CDTF">2007-08-16T17:08:38Z</dcterms:modified>
  <cp:revision>29</cp:revision>
  <dc:subject/>
  <dc:title>PowerPoint Presentation</dc:title>
</cp:coreProperties>
</file>